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52C-989B-469F-AC65-9CF592FE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AAE-3CE8-4D05-B068-B492C38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5E4-D3E0-4239-A232-FB9540E2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B7C-FAC6-4BB3-9070-1F7134E2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A462-BF7E-4A26-B960-97C0E90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175B-B46B-435B-8D0D-F765DBB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0111-1C8A-4C7A-9099-508FC577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53EE-C2C8-40C2-AC7C-555D5919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AE4-B7D6-4869-9A06-547ABEE0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7AC-4EB6-4478-95EA-72FE5CF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6B7-2B59-41AD-BB71-88934AC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453-F951-4ABD-85E2-1B869DE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5B20-4D0E-417D-9280-5ADB299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C3A-057C-4267-BDFD-CF0D853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47D2-30AC-463E-93D6-39AB4F91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84DF-FB0C-4E50-975C-F74822B0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859-590B-48CB-BE56-26CF8455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B10-5441-4E33-80E4-DD82F1E9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047-0FA3-4E66-86A8-5F3B8EAB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B7F-6F50-4F15-9201-E811A600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D6E-5CDF-471A-ADEE-557C4FB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FB2-4AA6-4B61-AE16-BF37DB4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BEB-94F9-4EA4-B4D4-B6D312D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C05-971A-4AEB-B71F-76A45FC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F785-CF6A-498B-92B6-A0E4C9D3E05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C82-E34B-4B20-B565-B8BC85C35E05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300" spc="-1" strike="noStrike">
                <a:solidFill>
                  <a:srgbClr val="333399"/>
                </a:solidFill>
                <a:latin typeface="Tahoma"/>
              </a:rPr>
              <a:t>Effet d’externalisation d’un signal audio reçu au casque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4190760"/>
            <a:ext cx="7162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Tahoma"/>
              </a:rPr>
              <a:t>Ingénierie intégrée du son et de l’imag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Vue d’ensemble pour l’implemen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iltres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398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36680" y="3733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Implémentation sur DSP5630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31080" y="2090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Détails lors de l’exposé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3600" y="6172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8880" y="617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rg_memoire2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867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Grâce à un petit logiciel de communication série, on peut choisir d’effectuer le traitement du signal ou 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eule une écoute au casque permet de juger l’efficacité du trai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ien que l’écoute soit fort subjective, on constate certains effets (augmentation des basses fréquences et diminution des hautes fréquenc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signal audio semble être exteriorisé même si sa localisation pose problè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filtredirmes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991120" cy="3155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50480" y="224316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36080" y="2243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filtreindir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4375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Tahoma"/>
              </a:rPr>
              <a:t>Aperçu des améliorations envisagé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Améliorer l’implémentation des cour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Tenir compte de la phase des sign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Implémenter 1ère, 2ème,… réflex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ts du visage (courbe, rotation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Plan de l’énonc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Introduction – description du problè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étapes de concep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esures en chambre sour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ise en équation des filt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Implémentation sur DSP563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perçu des améliorations envisag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Introduction – description du problè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signaux audio ne sont généralement pas destinés à une écoute au cas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 casque supprime toute information spatiale des signaux sans traitement approprié de ceux-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a suppression de cette information spatiale crée une sensation « désagréable », non naturelle à l’éco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Objectif du trav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ctuer un traitement numérique du signal audio qui permettra de d’extérioriser le signal audio lors de son écoute au cas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h_diagram_2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286000" cy="1874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52578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dh_diagram_1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286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Les étapes de concep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essai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267440" cy="315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14560" y="2243160"/>
            <a:ext cx="62812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2 types de traitement pour chaque orei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in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testdirect60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91480" cy="315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64720" y="224316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directs – rayons incidents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47080" y="224316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indirects – rayons incidents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stindirect120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9911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Mise en équation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Dél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tté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Fonctions de transfert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590920"/>
                <a:ext cx="39621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1120" y="5334120"/>
                <a:ext cx="4114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38480" y="3886200"/>
                <a:ext cx="4191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00" y="541008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20" y="274320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7:55:57Z</dcterms:created>
  <dc:creator>Lahaye Eric</dc:creator>
  <dc:description/>
  <dc:language>en-US</dc:language>
  <cp:lastModifiedBy>Lahaye Eric</cp:lastModifiedBy>
  <dcterms:modified xsi:type="dcterms:W3CDTF">2003-06-18T14:47:40Z</dcterms:modified>
  <cp:revision>22</cp:revision>
  <dc:subject/>
  <dc:title>Ingénierie intégrée du son et de l’image</dc:title>
</cp:coreProperties>
</file>