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FD96-BEA9-4707-B75B-996C6FE8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2A30-E102-4A77-A5CB-64D9CCB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9472-0024-45A7-BBEC-4213C78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1F61-F4B8-4028-9E72-204580BC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4BF-0D23-4F2D-AFF0-99EBE54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5D6-E4BC-46EE-8060-C66FF730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C4BB-317A-4390-8166-485379DB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E23-CA66-4E5C-B4F0-290BBB9C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65B-57A1-41C4-9AD5-E8E30C3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8CD-7AD3-4E8F-8B37-4BF6510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AD5A-1446-418B-A0A5-649A353C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51E0-E79C-41DF-B1B0-1F54D35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5342-D669-4C46-8F0E-F1AFBCF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BFD1-9DC2-4D39-BFEC-FAED361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698-264F-4BD3-9F85-7C6797C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5DB-1B7B-4C5F-9DC9-AB304D9A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D87-00B7-4C6C-BF76-F27BF3FC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210F-5F1C-4B6C-9E39-2F1648F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80EC-B2DA-416C-969B-17828CC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DFA1-B772-4EDF-AE24-68F6FE7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8906-17D6-446B-AB9C-B607000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3AE4-8E84-4514-B94D-257CC29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A13C-0432-4390-92FC-EA4C95AE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E8E4-1F11-48B0-8024-4CE000E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3D99-099D-44FB-8219-A0F8E2307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195-FE87-4EBB-A318-6668185D6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formatique quantiqu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es et avant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6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e par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ll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u paradoxe EP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instein-Podosky-Rose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2-83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découverte des possibilités de cryptograph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Benne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eynma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étudie la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imulation universel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aide d’ordinateur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5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pose les premières « po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s quantiques » qui permettent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velopper un modèle d’ordinateur univer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CF24-0C2F-42E6-90E1-6CB1D661D0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8435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4: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transformée de Fourier quantiqu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ppersmith et 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 celle-ci dans un algorithm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permettant de déterminer la période d’un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fo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 algorithme permettrait de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asser RSA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e application pratique important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s aux pertes de cohérence par la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rrection  d’erreurs quantique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Shor et Kitaev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988-?: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pratique d’un ordinateur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F00D-0973-42DF-827A-0F84757EF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E9E9-9B5B-427F-8398-61335B0A4A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b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st un système à deux états quantiques c-à-d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ecteur    à un espace complexe de Hilbert bidimens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Ordinateur quantique univer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ensemble de    qubits dans lequel les opé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ivantes peuvent être réalisées expérimenta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préparé dans un état con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que qubit peut être mesuré dans l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n ensemble de portes logiques universelles peut être appliqué à n’importe quel sous-ensemble de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qubits ne peuvent évoluer autrement que via les        transformations ci-d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15696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279600"/>
            <a:ext cx="216000" cy="14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8604360" y="4029120"/>
            <a:ext cx="288720" cy="263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667640" y="4484520"/>
            <a:ext cx="936720" cy="23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DC8D-4B95-4D3A-A1EA-7C847B842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incip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 système physique réalisable f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simulé de façon arbitra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che par un ordinateur univer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utilisant des ressources finies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AB1B-B62B-4545-B157-1924A43955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utilisation répétée d’une PU sur différentes combinaisons de qubits peut générer l’action de toutes les autres po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lassiquement, seule une porte non linéaire à </a:t>
            </a: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bits peut être réversible et univer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02000" y="4797360"/>
            <a:ext cx="2610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D58D-6552-4EA6-A216-EFEA3D0A5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s quantiques univers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Porte de Deutsch (basée sur l’idée de Toff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on suppose    incommensurable 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peut choisir la           puissance de R pour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 de Toff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orte univers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03280" y="2428920"/>
            <a:ext cx="1352520" cy="1400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992320" y="4229280"/>
            <a:ext cx="787680" cy="29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08720" y="4300560"/>
            <a:ext cx="1587600" cy="29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627280" y="3868560"/>
            <a:ext cx="127080" cy="211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84720" y="3935520"/>
            <a:ext cx="216000" cy="149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780000" y="2933640"/>
            <a:ext cx="2449440" cy="3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251E-3975-4A82-B628-820BFABC94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42920" y="2712960"/>
            <a:ext cx="2276640" cy="1771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188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) Construction d’une porte quantique de Deutsch à par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 portes à 2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e comporte comme une porte de Deutsch o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dans le cas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106800"/>
            <a:ext cx="5791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opérateur unitaire conditionnel et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est un NOT conditionnel (CNO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13120" y="3228840"/>
            <a:ext cx="216000" cy="18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4622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67640" y="4118040"/>
            <a:ext cx="1215720" cy="3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5290-F662-484E-A79B-D539333A84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) Construction d’une porte     contôlée à partir de portes à 1 qubit et de portes 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mbinaison de portes CNOT à 2 qubits avec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rtes opérateur unitaire est donc adéquate pou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alisation universelle d’algorithmes quant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29000" y="2111400"/>
            <a:ext cx="271440" cy="237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00000" y="3052800"/>
            <a:ext cx="237168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19640" y="3102120"/>
            <a:ext cx="551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où           et      sont des opérateurs unitaire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2560" y="3218040"/>
            <a:ext cx="576360" cy="215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003640" y="31748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57880" y="3751200"/>
            <a:ext cx="3206520" cy="2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90D4-D9BF-4699-85F2-8900285849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7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hénomène d’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plupart des systèmes composites sont non-sépa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446720" y="3444840"/>
            <a:ext cx="3778200" cy="1712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66960" y="4057560"/>
            <a:ext cx="323820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8B3C-1B75-4DC9-84BA-74A832DAF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B09C-C42C-43D2-AFB0-4BBFFA355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72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énomène d’intrica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it un système    constitué de deux états séparés   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t les états appartiennent à des espaces de Hilb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parés (b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mplet de mesures sur    et  séparément (ex. observables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fait un ensemble conjoint de mesures sur    et    (ex. observables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803680" y="2151000"/>
            <a:ext cx="179280" cy="193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697880" y="3436920"/>
            <a:ext cx="250560" cy="250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16720" y="21067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064360" y="2139840"/>
            <a:ext cx="220680" cy="193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339040" y="3465360"/>
            <a:ext cx="225360" cy="19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682720" y="2967120"/>
            <a:ext cx="1036800" cy="3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1684440" y="5440320"/>
            <a:ext cx="2923920" cy="293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1652760" y="4245120"/>
            <a:ext cx="3000240" cy="30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5281560" y="3743280"/>
            <a:ext cx="881280" cy="31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589200" y="4948200"/>
            <a:ext cx="164016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7686720" y="4665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8326440" y="469728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1700280" y="5753160"/>
            <a:ext cx="3139920" cy="45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902A-694E-4FB2-98F8-94B422FFF5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orte de Hadam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cas particulier de la matrice de rotation général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 unitaire évidem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   qubits, 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tte porte est utilisée pour la superposition des ét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71880" y="2511360"/>
            <a:ext cx="2825640" cy="846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57480" y="3946680"/>
            <a:ext cx="234720" cy="163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754360" y="4403880"/>
            <a:ext cx="4040280" cy="66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4A9C-0E91-4213-8258-FB3D02953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teraction avec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ets non unitai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pola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mission spont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9292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pérateurs d’évolution non uni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ction de la mesure non orthog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8197-B7F9-489B-8DFB-258791B266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3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avec l’environnemen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5640" y="2852640"/>
          <a:ext cx="7696080" cy="2432160"/>
        </p:xfrm>
        <a:graphic>
          <a:graphicData uri="http://schemas.openxmlformats.org/drawingml/2006/table">
            <a:tbl>
              <a:tblPr/>
              <a:tblGrid>
                <a:gridCol w="2815920"/>
                <a:gridCol w="1125720"/>
                <a:gridCol w="1878120"/>
                <a:gridCol w="18763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1" lang="fr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éc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s par porte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s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In piég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té op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d’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point quant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 nuclé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fr-BE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AFF08-8C77-405E-A06C-45B82B5C13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7B2A-DC0C-4347-AC6A-7729EDF53C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iège à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E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ints qu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ordinateur de 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nctions Joseph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pological quantu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55960" y="2422440"/>
            <a:ext cx="38415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A97E-3902-4667-9D71-4AD75808EA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élange de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C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9F, 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N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amiltonien d’interaction spin-spin dû au nuage d’électr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195640" y="2627280"/>
            <a:ext cx="2881080" cy="1457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259680" y="981000"/>
            <a:ext cx="19126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944720" y="5013360"/>
            <a:ext cx="5796000" cy="38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916360" y="5457960"/>
            <a:ext cx="1871640" cy="25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2411280" y="6021360"/>
            <a:ext cx="3635640" cy="2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B3BA-6891-43B0-82D7-CEF413696C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struction d’une porte CNO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r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 combinant avec l’opér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        et en appliquant une porte de Hadamard 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à 2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obtient une porte C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505240"/>
            <a:ext cx="7921440" cy="1139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63800"/>
            <a:ext cx="145260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6084720" y="4359240"/>
            <a:ext cx="287640" cy="22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92360" y="4819680"/>
            <a:ext cx="2062440" cy="264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5076720" y="3936960"/>
            <a:ext cx="282420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1293-F7DA-46F3-B703-7D7A1E1782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per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olution tempor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application de l’opérate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art et d’autre, on renverse l’évolution tempor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 spin un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deux spins coup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620720" y="2509920"/>
            <a:ext cx="6264360" cy="774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289080" cy="165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689200" cy="37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843280" y="5551560"/>
            <a:ext cx="5256000" cy="4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54C6-1D31-4D7E-97A5-0F3D477FD2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topper l’évolution temporell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ation de 2 matrices de Hadamard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et - 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our le blocage comp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77080" y="213372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146640" y="2119320"/>
            <a:ext cx="297000" cy="23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5867280" y="3068640"/>
          <a:ext cx="2371680" cy="2367000"/>
        </p:xfrm>
        <a:graphic>
          <a:graphicData uri="http://schemas.openxmlformats.org/drawingml/2006/table">
            <a:tbl>
              <a:tblPr/>
              <a:tblGrid>
                <a:gridCol w="473040"/>
                <a:gridCol w="474840"/>
                <a:gridCol w="476280"/>
                <a:gridCol w="474480"/>
                <a:gridCol w="473040"/>
              </a:tblGrid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fr-B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356000" y="4508640"/>
            <a:ext cx="116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365436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542A-4705-4029-AF23-81948616E6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Loi de Mo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osants de plus en plus pet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on atteint la limite des effets quantique (cf réduction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taille de l’oxyde MOS et effet tunnel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lution possib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: nano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= astuces pour conserver les mécanismes class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(conduction, diffusion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SINON changer complètement mécanismes et utiliser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propriétés quantiq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QUE QUANTIQUE (Q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888D-42D9-4FEA-BCB0-BDA9B2C03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0889-C59A-46FD-B4A7-9154AF9D4A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Algorith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méliore mais ne change pas la cla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Grover (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change la classe du problème de la factorisati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imulateu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 »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tiliser le parallélisme pour simuler les effets quantiques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Lloy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752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C2CF-3D20-4DAA-B041-DDB46DC791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ryp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Joue sur l’intrication de qubits et sur la natur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tructive de la me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tuellement, uniquement des idées de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rrection d’err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des correcteurs (cf décoh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BD21-5B0E-459B-BC11-A9CE323B38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50A4-A11E-4853-BE21-C905A4572F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cun intérêt concret mais réalisé expérimentalement avec un qu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de (0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 vers 0 ou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lè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éterminer quelle proposition est vraie (ou une quelconque si les deux sont vra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i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) 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’est pas équilib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2219-4664-4F6D-8852-D4E8332F7C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6544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classiqu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 moins N+1 évaluations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ux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n+1 qubits (0 à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1 registre de 1 qubit (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ement préparés dans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003640" y="537372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2E5A-6076-44AE-BB43-6EEB40F36B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43588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au premier registre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perposition des ét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 de f dans le deuxième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ation unitaire du deuxième regi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132000" y="5300640"/>
            <a:ext cx="2959200" cy="596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259000" y="2349360"/>
            <a:ext cx="297000" cy="230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397240" y="2781360"/>
            <a:ext cx="4190760" cy="690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539640" y="6165720"/>
            <a:ext cx="304920" cy="2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94F4-1A9F-4A83-8584-F949142434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’une phase condi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 calcul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équivalent au calcul de l’inve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6920" y="3017880"/>
            <a:ext cx="7417080" cy="7714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84360" y="5410080"/>
            <a:ext cx="784836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A3C3-059B-4513-A096-03D070EA80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Étap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de Hadamard in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esure individuelle de tous les qubits du premier regi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abilité que tous les qubits soient à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5640" y="5738760"/>
            <a:ext cx="7488360" cy="507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40160" y="3065400"/>
            <a:ext cx="2617920" cy="4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C78E-DEE6-4488-A0EF-2EDFFF478E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stant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équilibrée </a:t>
            </a: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fr-BE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qubits mesurés sont 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équilibré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B) vra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u moins de qubits est à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n’est pas constante </a:t>
            </a:r>
            <a:r>
              <a:rPr b="0" i="1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 (A) vra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olution du problème avec une seule 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élération exponentielle grâce au parallélisme quantique dans l’évaluation de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54364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6ECB-5947-4F94-986D-124BC41054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068640"/>
            <a:ext cx="4032360" cy="216000"/>
          </a:xfrm>
          <a:prstGeom prst="rect">
            <a:avLst/>
          </a:prstGeom>
          <a:solidFill>
            <a:srgbClr val="779f9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068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3284640"/>
            <a:ext cx="439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4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85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5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580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84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34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707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712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2852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2997360"/>
            <a:ext cx="503280" cy="576000"/>
          </a:xfrm>
          <a:prstGeom prst="ellipse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limitations de l’informatique clas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chine de 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3357720"/>
            <a:ext cx="1800360" cy="2879640"/>
          </a:xfrm>
          <a:prstGeom prst="rect">
            <a:avLst/>
          </a:prstGeom>
          <a:solidFill>
            <a:srgbClr val="779f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357720"/>
            <a:ext cx="360360" cy="2735280"/>
          </a:xfrm>
          <a:prstGeom prst="rect">
            <a:avLst/>
          </a:prstGeom>
          <a:solidFill>
            <a:srgbClr val="779f92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9800" y="3789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49800" y="4294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9800" y="4797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530208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980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076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16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1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64000" y="4005000"/>
            <a:ext cx="43200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944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9272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3068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8C35-639D-4B26-A5FD-99F8AF88E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C4C0-1476-42EC-BCA7-7B557F8652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 quantique (Q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est le produit de deux n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formule est utilisée dans de nombreuses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informatique quan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984240" y="4170240"/>
            <a:ext cx="419040" cy="266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47640" y="2479680"/>
            <a:ext cx="6409080" cy="1236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9640" y="17002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ransformation unitaire sur     qubits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356000" y="1866960"/>
            <a:ext cx="287280" cy="19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FAD0-2668-477B-97CC-7A8FC975E7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ED057-4E88-443F-9FC4-883ACD6AEC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 (19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dans une liste non structurée 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éléments        un élément particu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es éléments au hasard, un par 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93080" y="2206800"/>
            <a:ext cx="287280" cy="222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916360" y="25750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492960" y="2560680"/>
            <a:ext cx="1116000" cy="409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90920" y="4559400"/>
            <a:ext cx="129384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56DB-546E-4F06-BA73-EC6B988D6F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lace les différentes positions de la liste dans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 quantique, qu’on place dans une superposition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les états      représentent la position de l’élément dan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e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979640" y="4114800"/>
            <a:ext cx="5056200" cy="546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157480" y="5033880"/>
            <a:ext cx="398520" cy="276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564000" y="5562720"/>
            <a:ext cx="230328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BF4F-3B9B-4475-9324-7DE1784647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 l’opérateur unitaire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la suite de transform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r le signe de tous les composants sa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184320" cy="19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165400" y="3357720"/>
            <a:ext cx="4638600" cy="336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8028000" y="5470560"/>
            <a:ext cx="289080" cy="26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1298-7196-48C3-9F69-68714C6FA8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90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es logique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n applique        ,                         fois,               et l’é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que est donc pres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92560" y="2865600"/>
            <a:ext cx="2935080" cy="3474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348000" y="3335400"/>
            <a:ext cx="2808360" cy="341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627280" y="4040280"/>
            <a:ext cx="432000" cy="303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76720" y="3995640"/>
            <a:ext cx="2016000" cy="34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940360" y="4032360"/>
            <a:ext cx="1079640" cy="311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4427640" y="4487760"/>
            <a:ext cx="233280" cy="2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A947-A7E6-4B1B-A216-6644A3AB62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é d’erreur dans la mesure de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1244520" cy="409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807160" y="2781360"/>
            <a:ext cx="272880" cy="287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224000" cy="36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23C4-2FD7-4173-A2F2-4F4BB27839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351C-1034-4A20-9855-FEB9958F657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 (19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ver la péri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’une fonction enti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iodi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class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 de méthode analy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valuer          pour         valeurs de    et découvrir qu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onction se rép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138560" y="2238480"/>
            <a:ext cx="217440" cy="195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792000" cy="385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771640" y="5445000"/>
            <a:ext cx="2003400" cy="46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354560" y="2637000"/>
            <a:ext cx="2305080" cy="390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1979640" y="4365720"/>
            <a:ext cx="719280" cy="35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490920" y="4413240"/>
            <a:ext cx="576360" cy="311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610240" y="4448160"/>
            <a:ext cx="208080" cy="1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D6E8-B779-45B8-B1DF-DF87EC9FA9A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 de règ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fini d’états in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an d’entré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mposé de symboles bin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ment suivant du ruban dans la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eut également défin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est la sor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une machine de Turing quand l’entrée est le ruban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hine de Turing univers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rdinateur universel capable de simuler le comportement de n’importe quel 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2089080" cy="280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08720" y="2517840"/>
            <a:ext cx="269640" cy="236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32720" y="2997360"/>
            <a:ext cx="198360" cy="19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216000" cy="176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8244000" y="3368520"/>
            <a:ext cx="203040" cy="2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140360" y="3789360"/>
            <a:ext cx="577800" cy="31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5292720" y="3789360"/>
            <a:ext cx="72072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669080" y="4332240"/>
            <a:ext cx="216000" cy="176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3132000" y="6021360"/>
            <a:ext cx="2951280" cy="366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435640" y="4724280"/>
            <a:ext cx="325440" cy="2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DA8E-A33A-4BFE-BAB3-2EEABFA406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éthode quan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35280" y="436572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195640" y="3645000"/>
            <a:ext cx="468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95640" y="450864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16360" y="335772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96000" y="342900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7640" y="42908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3280" y="364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08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72280" y="42926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fr-BE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5076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832040" y="3500280"/>
            <a:ext cx="291960" cy="266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7022520" y="3429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67960" y="42861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h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136440" cy="1112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2195640" y="4581360"/>
            <a:ext cx="136440" cy="1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DD97-C9AB-4FBB-A144-F46D13D419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lus           (pour l’espace de travail) qubit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es      qubits sont divisés en 2 registres    et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  sont initialement préparés dans l’état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0360" cy="209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160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1616040" y="2827440"/>
            <a:ext cx="723960" cy="314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1174680" y="4003560"/>
            <a:ext cx="37296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544680" y="4538520"/>
            <a:ext cx="13968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6083280" y="4103640"/>
            <a:ext cx="144360" cy="117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6737400" y="4076640"/>
            <a:ext cx="139680" cy="177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6372360" y="4457880"/>
            <a:ext cx="291960" cy="26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2340-DE04-43B3-8F10-BB0ED83828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(équivalent dans ce cas à une transform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urier) à    pour obtenir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2838600"/>
            <a:ext cx="297000" cy="230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340000" y="3330720"/>
            <a:ext cx="208080" cy="169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352680" y="4172040"/>
            <a:ext cx="286236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D0E5-928E-4BBF-B7C1-3B570F3436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      définie p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alors l’état to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327400" y="2855880"/>
            <a:ext cx="372960" cy="357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21240" cy="479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220920" cy="104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983A-6BB2-4729-AE4E-394AE95B9D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serve    , qui donne une valeur uniqu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 total devient a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                                         sont les valeurs de    p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quelles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212760" cy="271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516720" y="2781360"/>
            <a:ext cx="360360" cy="328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2771640" y="3666960"/>
            <a:ext cx="3748320" cy="1130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927000" y="5049720"/>
            <a:ext cx="3390840" cy="2444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20000" y="5051520"/>
            <a:ext cx="216000" cy="177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979640" y="5465880"/>
            <a:ext cx="1152360" cy="26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1072-543F-4D52-8132-F1003305EE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t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pplique alors la transformée de Fourier et on obt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ét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1655640" cy="361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276720" y="3973680"/>
            <a:ext cx="2447640" cy="968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1295280" y="5354640"/>
            <a:ext cx="673272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AE82-1848-4A41-94FC-7139B1E045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btient un multiple de   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n’ont pas de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uffit alors de transformer          en fraction irrédu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s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et    ont un facteur comm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lgorithme échoue alors et il faut le recomm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répétitions nécess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792000" cy="385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1871640" cy="401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2637000" y="5300640"/>
            <a:ext cx="1287360" cy="33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173160" cy="2365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1476360" y="3262320"/>
            <a:ext cx="174600" cy="2379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6"/>
          <a:stretch/>
        </p:blipFill>
        <p:spPr>
          <a:xfrm>
            <a:off x="2124000" y="4221000"/>
            <a:ext cx="144360" cy="130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7"/>
          <a:stretch/>
        </p:blipFill>
        <p:spPr>
          <a:xfrm>
            <a:off x="2124000" y="3357720"/>
            <a:ext cx="144360" cy="129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8"/>
          <a:stretch/>
        </p:blipFill>
        <p:spPr>
          <a:xfrm>
            <a:off x="5219640" y="3670200"/>
            <a:ext cx="719280" cy="3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6E61-E62D-40D5-8259-4A259C343A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1) Cryptage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ncryptage par la clef publi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écodage par clef priv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ù     peut-être facilement déterminée à partir de     et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cteurs de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écodage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algo de Sie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303640" cy="271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3635280" y="4508640"/>
            <a:ext cx="2232000" cy="322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14480" cy="187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14120" cy="1857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4859280" y="2781360"/>
            <a:ext cx="792360" cy="360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36000" y="5229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2124000" y="5661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4140360" y="5877000"/>
            <a:ext cx="4282920" cy="37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8CA0-E381-4B58-8689-024D24E955F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lgorithme de Shor: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2) Utilisation de l’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nction périod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i    est pair,               a un facteur commun avec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utilise alors l’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algorithme d’Euclid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our le trou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augmentation de vit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352680" y="2797200"/>
            <a:ext cx="4098960" cy="31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900000" y="3340080"/>
            <a:ext cx="142920" cy="128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268360" y="3173400"/>
            <a:ext cx="1165320" cy="326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7236000" y="33228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5"/>
          <a:stretch/>
        </p:blipFill>
        <p:spPr>
          <a:xfrm>
            <a:off x="6012000" y="4437000"/>
            <a:ext cx="1152360" cy="3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37F85-A63F-42E8-9D2E-A0D8F9F11D7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EE23-2911-4096-8F7C-A28435038C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hèse de Turing-Chu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« Toute fonction qui pourrait naturellement ê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sidérée comme calculable (décid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eut être calculée pa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Machine de Turing universell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A75E-FEC7-4CCB-8A3A-6183ADA8D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Quantum Computer Emulator (Q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cro-instructions (MI) dépendent de l’implémentation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gramme écrit à partir de ces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évolution temporelle donnée par résolution de l’équation de Schröd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9E81-3204-4B92-8BAF-5292CF7DD72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très ambit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licable dans de nombreux problèmes (décryptage, calcul, simulation quantiqu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ise à profit de propriétés purement quant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hé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 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ré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us les algorithmes ont été inventés après 1990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remières réalisation pratiques réalisées après 1995 (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Winenland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2D5E-43E3-49F4-899C-E0A4075C519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’énormes difficulté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viter les interactions avec l’environnement (phénomènes de décohérence, émission spontanée, dépolari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ériel coûteux et encombrant (cryogénie, aimants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éo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veaux algorithmes rares malgré le nombre croissant de cherch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é des codes corre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18A2-939F-44C2-AA29-DC84FAAD2AC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ux types de problèmes (Gö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f « 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Problème de l’arrê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ortant car permettrait de résoudre cert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blèmes mathématiques (conjectur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ldbach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ID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"/>
              </a:rPr>
              <a:t>classes de 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568A-C2F1-4518-A650-335AB6EA7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mbre d’étap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écessaires à une machine de 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ésoudre le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ô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la taille de l’entrée (généralement le nombre de bits nécessaire pour encoder le problè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«  Hard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pend de faç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a taille de l’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ème dont la solution peut être vérifiée en un temps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1509-9C89-43F2-935C-D6A31BE76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u de la pré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que qu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oeu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racle de Deutsch-Jo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G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orithme de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1CF2-B84F-4D58-BAC3-DA4094E84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170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1:15:10Z</dcterms:created>
  <dc:creator>Maxime</dc:creator>
  <dc:description/>
  <dc:language>en-US</dc:language>
  <cp:lastModifiedBy>Maxime</cp:lastModifiedBy>
  <dcterms:modified xsi:type="dcterms:W3CDTF">2004-05-26T21:14:22Z</dcterms:modified>
  <cp:revision>141</cp:revision>
  <dc:subject/>
  <dc:title>Informatique quantique</dc:title>
</cp:coreProperties>
</file>