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55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jpeg" ContentType="image/jpeg"/>
  <Override PartName="/ppt/media/image45.wmf" ContentType="image/x-wmf"/>
  <Override PartName="/ppt/media/image16.jpeg" ContentType="image/jpeg"/>
  <Override PartName="/ppt/media/image5.wmf" ContentType="image/x-wmf"/>
  <Override PartName="/ppt/media/image14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1.jpeg" ContentType="image/jpeg"/>
  <Override PartName="/ppt/media/image50.wmf" ContentType="image/x-wmf"/>
  <Override PartName="/ppt/media/image29.png" ContentType="image/png"/>
  <Override PartName="/ppt/media/image30.png" ContentType="image/png"/>
  <Override PartName="/ppt/media/image32.png" ContentType="image/png"/>
  <Override PartName="/ppt/media/image35.png" ContentType="image/png"/>
  <Override PartName="/ppt/media/image43.jpeg" ContentType="image/jpeg"/>
  <Override PartName="/ppt/media/image38.wmf" ContentType="image/x-wmf"/>
  <Override PartName="/ppt/media/image44.jpeg" ContentType="image/jpeg"/>
  <Override PartName="/ppt/media/image22.jpeg" ContentType="image/jpeg"/>
  <Override PartName="/ppt/media/image9.png" ContentType="image/png"/>
  <Override PartName="/ppt/media/image33.png" ContentType="image/png"/>
  <Override PartName="/ppt/media/image46.jpeg" ContentType="image/jpeg"/>
  <Override PartName="/ppt/media/image15.wmf" ContentType="image/x-wmf"/>
  <Override PartName="/ppt/media/image54.png" ContentType="image/png"/>
  <Override PartName="/ppt/media/image31.png" ContentType="image/png"/>
  <Override PartName="/ppt/media/image47.jpeg" ContentType="image/jpeg"/>
  <Override PartName="/ppt/media/image48.jpeg" ContentType="image/jpeg"/>
  <Override PartName="/ppt/media/image7.png" ContentType="image/png"/>
  <Override PartName="/ppt/media/image40.wmf" ContentType="image/x-wmf"/>
  <Override PartName="/ppt/media/image37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49.jpeg" ContentType="image/jpeg"/>
  <Override PartName="/ppt/media/image52.wmf" ContentType="image/x-wmf"/>
  <Override PartName="/ppt/media/image12.png" ContentType="image/png"/>
  <Override PartName="/ppt/media/image53.wmf" ContentType="image/x-wmf"/>
  <Override PartName="/ppt/media/image13.png" ContentType="image/png"/>
  <Override PartName="/ppt/media/image51.wmf" ContentType="image/x-wmf"/>
  <Override PartName="/ppt/media/image11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5DF-41FF-43D9-BBC9-7902C53BDD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’introduirait d’abord les capacité si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ite on considérera les capa différenti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 terminerai cette partie par une comparaison entre les deux types de cap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nager de slide en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èle électrique qui est décrit analytiquement par la relatio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capa la plus connue… plan parallè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 la mod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capa peut-être moins connue est celle à effet de bord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troisième membre de cette famille mentionnée dans le Senturia est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B9FF-7B85-46CF-822F-CC989972EE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èle électrique qui est en fait la mise en série de deux capa avec point mil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 à plans parallèl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la partie centrale se déplace, une capa augmente tandis que la capacomplémetaire dim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en va de même pour la capa dif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 en dernier lieu la capa interdigitéé qui très similiaire au cas simple sauf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rtie fixe est constitué de deux armatures et que le déplacement se fa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5277-FE64-4167-906F-2FC28F270A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antag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s avantages du point de vue mesure peut-être le plus important est de fourn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ur pouvoir profiter de ces avantages il faut avoir trouver une parade aux problèmes suiv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 que l’on veut un rappel avant d’exposer la structure de cette par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D4D4-963B-40C2-B97A-6696890546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réciser l’hypothèse sur la force électrostatique qui joue ici parce que les armatures sont mob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Ne pas annoncer que l’on va lever cette hypo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Q=Cv NOTER AU TABL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i la structure de la partie qui traite de la mesure de capacité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re que dans la première partie on considère des  cicruits de mesure à élé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éau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considère deux circuits simples et des circuits à capacités commutées pour capa si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noncer de brefs exemples pour capa d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s à compensation d’offse où on examine le défaut d’offs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de démod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’interroge sur la performance au niveau du rapport S/N et on lève ici l’hypothèse de force electrosta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églig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er que l’ampli op est id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ons donc au premier cicuit présenté par Senturia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ler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 dire qu’il y a dans l’interconnex le senseur-ampli tjs une capa 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ler de 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ction de transfert pour ce ontage inver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ic dépend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voit que la siginification du signal de sortie dépendra fortement de la nature de V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uria propose une version amélioré du circuit précdént lorsqu’il est uti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à haute fréquen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us ne nous attarderons pas sur celui-ci, mais j’invite les intéressé à consulter 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qin du c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us passerons tout de suite à un autre type de ciruits, à savoir à des circuits dits à capa commuté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 se basen sur un échange de charg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, Attardons-nous d’abord sur le schéma électriq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retrouve notre capacité incn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t une capa de référence à laquelle on va comparer C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 3 transistors qui contrôlent l’échange d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échange se déroule en 4 phases régies par deux horloges ph1 et ph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1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 EST UNE SOURCE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PEUT SUPPOSER C(X) CONSTANT SUR UN PULSE D?HORLO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ECHELLE DE TEMPS EST CHOISE TELLE QUE LES TRANSITOIRES SONT INOBSERV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2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3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xploitant les deux expressions pour Qx on obtient une relation linéaire C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uria nous propose d’abord un simple montage suiveur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capa parasite n’est pas neutral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ncer que l’on va arrêter de considérer les ampli-op comme idéau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s on beaucoup de défaut (gain non infini,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i on considére l’offset “(c.à.d. que V+ &lt;&gt; V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re les trois pa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ruit avec l’ampli-op comportant le défa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met de choisir pour V2: Vo ou –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trage passe-b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’abord exlpiquer le but de ce circuit: annuler l’effet de l’offset dans le signal de sor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 qu’il ne peut pas être élimné parclabiration en raison de sa dépendance en tempé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 que pour mieux comprendre on va d’abord analyser l’volution de Vo puis celle de V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rer comment on obtient Vo, que sa composante DC dépend de Vos1-Vo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rer que la composante DC de V2 n’en dépend p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Élimine aussi le bruit en 1/f entre v+ et  v-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2C69-A827-4E4B-87F2-37DE814AC5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ire pourquoi on dé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= 1k C= 4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= 70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= 1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B2D1-7914-47F0-A50C-A779717546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aire le lien avec le cours de microélectronique de 2e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mesure de l’accélération se fait via mesure capacitive du déplacment d’une masse (en boucle ouver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partie noire constitue la masse mobile avec ses électrodes mob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s parties blanche et grise constituent les électrodes fixes des capas différenti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n peut voir les ressorts qui sont pl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s électrodes fixes sont commandées par deux signaux modulants opposés et la sortie est un signal modulé qui mesure le déséquilibre de la capa différenti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istinguer les parties mesure et auto-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entionner les dim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hip monolithique: tout (partie mécanique et circuits électriques) a été réalisé sur un même c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n peut bien distinguer la partie mécanqiue de la partie des circuits auxiliaires électr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chéma-bl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système est en boucle ouverte, donc il n’y a pas de rétroaction servant à linéariser le système, car tous les éléements sont assez linéaires par eux-mê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 capteur est excité soit par une accélération, soit par un signal d’auto-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s électrodes des capas sont excitées par une signal modulant créé par un oscill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sortie des capas est amplifiée et démodulée à l’aide du même signal mod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eci nous donne un signal proportionnel à l’accélération subie mais qui présente des ond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Un filtrage pass-bas permet d’éliminer ces ond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ccélération maximale mesurable: +-5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onction de transf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u repos, donc si a vaut 0, Vout vaut ceci:… (biais) Moitié de la tension d’alimentation + plage définie par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lpha peut être compen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Bande passante, fréquence de résonance, et accélération maxi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’accéléromètre est ratiométrique: l’offset et l’accélération sont proportionnels à la tension d’alimentation. Ceci est très pratique car si la tension d’alimentation présente des fluctuations, l’accéléromètre et les circuits extérieurs varient de la même faç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églage par las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xpliquer 5 des 8 p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stimons la valeur des capacités différentiel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pproximation des capas plana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vec 42 cellules et des petits déplacemen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xpliquer les différents term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capa donnée par ADI est plus grande que 60 fF, mais c’est parce qu’on a négligé les effets de bord. Montrer les lignes de champ sur le schéma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stimons la raideur des ressorts. Dans un des chapitres du bouquin, nous avons vu que la raideur peut être approximée par la formule suivante: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Montrer comment on passe de la version réelle à la version déplié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’estimation de k n’inclut pas la diminution de k due au voltage appliqué qui est de 0.4 N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 l’aide des dimensions géométriques de la partie mobile, on peut estimer sa masse. Ceci nous donne la fréquence de ré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stimer le facteur de qualité est nettement plus diffic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ta est la visquos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our mesurer une accélération (dans une certaine direction), on mesure le déplacement d’une masse m fixée à un ressort de raideur k et soumise à une force inertiel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n suppose qu’il y a en plus un amortissement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fonction de transfert d’un tel système se met sous la forme: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e système a comme fréquence de résonance … et comme facteur de qualité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a force totale qui s’exerce sur la masse est composée de deux parties: une force inertielle et ue force due au b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ssentiellement 3 types de me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analysant le signal enregistré, on peut dire si on est dans le cas d’un accident ou 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pécification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pplica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ci on fait une mesure d’inclinaison: l’axe x est en rouge, l’axe y en bl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es deux axes se trouvent dans un plan vertical, ils sont soumis au champ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n fait tourner l’accéléromètre dans ce plan. Expliquer la fig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ur l’oscillo on affiche une courbe de Lissajou, y en fonction d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i on tourne l’accéléromètre, le point décrit un cercle de ray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n veut fabriquer un accéléromètre quasi-statique, c.-à-d. un accéléromètre où le déplacement de la masse suit l’accélération sans déphasage ni atténuation. (diagrammes de B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eci est le cas si la variation/fréquence maximale de l’accélération est nettement inférieure à la fréquence de résonance du systè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ans ce cas, on a: x = Ftot/k =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Donc si on veut une grande fréquence maximale de l’accélération, il faut une grande fréquence de résonance ce qui produit des déplacement très fai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xemp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’amortissement fluidique introduit un bruit de mouvement brownien (du à l’amortissement fluidique) qui équivaut à une force qui s’ajoute à la force d’inert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ormule pour Fn,rms pour une bande de bruit de 1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 est courant de rapporter cette force à une accélération équival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L’exemple avec des valeurs réalistes pour les différents éléments laisse prévoir qu’il est possible de réaliser des grands rapports signal-sur-b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n réalité la sensibilité de l’accéléromètre est limitée par d’autres eff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- bruit introduit par les circuits de 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- erreurs de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- le fait d’ajouter de la raideur à la structure (pour augmenter la fréquence de réson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468-A92F-4DD4-8B2A-D3BBC2D4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D21-998A-4E6F-A336-F95EF408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006-65E3-429A-8ED2-9A5FFB35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588-A2AC-45A6-9754-D9F3DB13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368-532F-4AF5-9E43-D9A2DC66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4C5-BCB3-41E2-9509-EABEF702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1CE-679D-46E7-8B49-69648BAC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6BE-9765-4660-927F-4FB93ED2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30F-3AFE-4CA4-AF0D-766F3436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880-016C-4800-A337-621F8F11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0DD-D277-4266-B99D-AE15D27E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D34-4A3F-4337-9129-F6313C8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936A-7926-41CD-BB3F-EAD387A47378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88D-A7AB-46D2-83D9-FA4E5D72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7.jpe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Microaccéléromè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CHESNE Max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ATHES 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IES Phili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A2E-151C-4474-9273-67867C71A89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DECE6-0B55-4BFA-9982-D6CEAE1CF1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rincipe de la mesure de dé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2 types de mes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Open-loop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: mesure du dé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(utilisée le + souvent pour cette 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Closed-loop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: mesure de la force nécessaire pour maintenir un déplacement n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verse méth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iation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pacité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+ utilisé en microsystè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riation d’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uctan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surtout macro sen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sur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q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nouveau, technologie du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ffet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912-B540-4D5D-A39E-2AA01F43FB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1563A-A300-4857-BD36-C0F7809637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rincipe de la mesure de dé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ia capa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Arial"/>
              </a:rPr>
              <a:t>technique open-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ia effet tu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Arial"/>
              </a:rPr>
              <a:t>technique closed-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F2B-F542-4461-B93D-3E14ADD2AC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14010-51E2-4A77-B773-5B2773D456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000" y="2282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Types de capacités de me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1720" y="1371600"/>
            <a:ext cx="31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à plans parallè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99880" y="388476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terdigi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3080" y="1371600"/>
            <a:ext cx="23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à effet de b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12444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371600" y="4495680"/>
            <a:ext cx="1612800" cy="1650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410080" y="2057400"/>
            <a:ext cx="28702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76680" y="39607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Modèle électrique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324480" y="4724280"/>
            <a:ext cx="774720" cy="685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3657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13716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943600" y="5638680"/>
            <a:ext cx="1828800" cy="382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198360" y="95400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apacité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25A-90D2-4037-AFA4-6D527BD54F9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8C78C-C5CA-400E-AC0A-A5E15089A8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92080" y="129528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à plans parallè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6240" y="39607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terdigi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70560" y="133524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à effet de b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2654280" cy="92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14400" y="4800600"/>
            <a:ext cx="2743200" cy="965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62120" y="2286000"/>
            <a:ext cx="3314520" cy="787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3657600"/>
            <a:ext cx="899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7040" y="403704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Modèle électriqu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172200" y="4876920"/>
            <a:ext cx="1359000" cy="1054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467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apacités différenti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E29-4871-47E6-879C-BC875E7E5D3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4F74F-03A2-4C1F-A1DF-2CA29C7A94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114300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vantages des capacités   différentiel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annulation des effets 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emier ord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annulation du signal pour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éplacement nul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étermination 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ens de dé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d’un point de vue systè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inéarisation autour du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’équi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1093680"/>
            <a:ext cx="4257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Inconvénient des capacités différentiel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ifficulté de réaliser de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é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ême va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mplexification du circ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51280" y="527364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66640" y="5724360"/>
            <a:ext cx="2057400" cy="498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3.    Compar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481-101A-4DAA-8851-6F1253CCC8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rincipe de la mesure de dé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ia capa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Arial"/>
              </a:rPr>
              <a:t>technique open-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ia effet tu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Arial"/>
              </a:rPr>
              <a:t>technique closed-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5A4-3106-412E-8BC8-C3F10E26FC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91DF5-B3E4-439D-A57D-46AF9633AD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90440"/>
            <a:ext cx="8345520" cy="56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ypiquement, I~1nA,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~1nm (V~0.2V)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rès s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écessité d’utiliser feedback pour maintenir I et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oi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Méthode: thé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7720" y="2798640"/>
            <a:ext cx="17928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807000" y="2033640"/>
            <a:ext cx="26964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53920" y="3068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1.0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0240" y="158436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Barrière quan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0.2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86280" y="2033640"/>
            <a:ext cx="27000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76640" y="2663640"/>
            <a:ext cx="108144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5800" y="2303640"/>
            <a:ext cx="168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</a:rPr>
              <a:t>caract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: 0.046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88920" y="2335320"/>
            <a:ext cx="3357720" cy="59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64E-3459-426E-8CB7-65C4D3A6F6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AAA2A-7B74-4E73-B6DD-224B49FC47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41280" y="12679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ap 1nm difficiles à réaliser pa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utilise un actuateur (V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~25V) pou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pprocher les deux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particulièrement pointu pour théorie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v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tection contre l’écras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cantilever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ré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~40kHz&gt;&g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crashing prot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97360" y="5027760"/>
            <a:ext cx="4038840" cy="922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>
            <a:off x="5832360" y="4868640"/>
            <a:ext cx="63036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28160" y="454824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993080" y="4913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14880" y="45100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H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62720" y="585936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597360" y="5859360"/>
            <a:ext cx="40644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60360" y="604044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queezed-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amping h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608800" y="4419360"/>
            <a:ext cx="58392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5408640"/>
            <a:ext cx="314280" cy="76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27720" y="5589720"/>
            <a:ext cx="58608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64320" y="610092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r/Pt/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8360" y="373212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i nitride canti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overcoated with Cr/Pt/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332000" y="4959360"/>
            <a:ext cx="1617480" cy="1665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Méthode: fabr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Méthode: me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6280" y="414972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ù v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ac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est ajusté pour maintenir I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616040" y="3114720"/>
            <a:ext cx="57006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779-7FC4-41A1-AA34-55D9318C78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CB2AB-379B-4880-AB61-A9C37F676E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Gauge facto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~22 pour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~1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bruit dominé par le bruit intrinsèque de l’appar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ensibilité inférieure au mg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Bien mieux que senseur capacit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(G.F. ~ 1 car dépendance linéaire de C en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15920" y="4643280"/>
            <a:ext cx="3168720" cy="189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14160" y="4938840"/>
            <a:ext cx="376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omparais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obtenus pour la mesure de 1.5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ar effet tunnel et par effet capaci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(version 5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015920" y="1538280"/>
            <a:ext cx="3679920" cy="7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329-7A1D-4DB4-BF0B-6205C3B170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’accélération via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incipe de la mesure de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cas particulier: accéléromètre ADXL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2D0-5A7C-4D5F-89DF-AADDDB27E8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DAED3-62E9-4CE9-B4E3-1395E5CACF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’accélération via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incipe de la mesure de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cas particulier: accéléromètre ADXL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D10-852B-4799-8CD6-214495D60E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88BAC-52E6-4232-8EEC-02E5C40D99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76280" y="148896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Point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946160"/>
            <a:ext cx="6724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lque soit le circuit de mesure on part toujours de la re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’hypothèse sous-jacente é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(x) ne dépend pas d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86280" y="3083040"/>
            <a:ext cx="2133360" cy="384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Mesure de capac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ABB-C613-4CDC-AC41-2917529FAE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84DFC-4B4A-4CBD-8533-3182847E95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sure de capacité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e capa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é différen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ircuits à compensation d’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echniques de dé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blèmes reliés au rapport signal à b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F8F-D360-4F31-A386-99A1789A50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42E07-F1C0-4D02-B0E2-4F4AB69DC6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Utilisation d’un amplificateur trans-impé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85920" y="2754360"/>
            <a:ext cx="4197240" cy="225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751280" y="364644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o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822920" y="4273560"/>
            <a:ext cx="384480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842000" y="3151080"/>
            <a:ext cx="1917720" cy="32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E69-8D4A-4C0A-8772-7C9A4ECC07E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0AD89-BC82-49AD-9D25-0E540845AC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920" y="817560"/>
            <a:ext cx="81165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 tension de sortie devi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t elle est proportionnelle à la vitesse         sortie pour autant que          soit con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écessité d’un intégrateur pour mesurer la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127240" y="4059360"/>
            <a:ext cx="465120" cy="53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668920" y="3608280"/>
            <a:ext cx="433440" cy="63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2906640" y="1886040"/>
            <a:ext cx="2706840" cy="822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797360" y="2817720"/>
            <a:ext cx="1067040" cy="230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4776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fr-CH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 est une </a:t>
            </a:r>
            <a:r>
              <a:rPr b="1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source DC</a:t>
            </a:r>
            <a:br>
              <a:rPr sz="2000"/>
            </a:br>
            <a:r>
              <a:rPr b="1" lang="fr-CH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722-D6F9-4596-A13A-DCDFF89F34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13115-D916-4262-9C3B-08C0939536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2800" y="887400"/>
            <a:ext cx="7773840" cy="55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 V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so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cos(w t) , alors il y a plusieurs cas de figures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 masse </a:t>
            </a:r>
            <a:r>
              <a:rPr b="0" i="1" lang="fr-CH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ne se déplace p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 masse </a:t>
            </a:r>
            <a:r>
              <a:rPr b="0" i="1" lang="fr-CH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se dépla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 sortie est un mélange entre mesure d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ition et mesure vit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is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3936960"/>
            <a:ext cx="1295280" cy="301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819520" y="3632040"/>
            <a:ext cx="1752480" cy="227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334120" y="3633840"/>
            <a:ext cx="1911240" cy="226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791320" y="3936960"/>
            <a:ext cx="1066680" cy="230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2862360" y="5454720"/>
            <a:ext cx="1295280" cy="323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467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fr-CH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 est une </a:t>
            </a:r>
            <a:r>
              <a:rPr b="1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source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687760" y="2114640"/>
            <a:ext cx="3463920" cy="279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1638360" y="3232080"/>
            <a:ext cx="584208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2546280" y="5994360"/>
            <a:ext cx="4699080" cy="3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BD6-4813-4289-A4FD-811386B071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5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Illustration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640" y="86364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ouvement de la  « proof-mass » est tel que la capacité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[x(t)]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a pour expre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7880" y="2133720"/>
            <a:ext cx="77882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l à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762280" y="1797120"/>
            <a:ext cx="3181320" cy="282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23880" y="2735280"/>
            <a:ext cx="7413480" cy="250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553080" y="1359000"/>
            <a:ext cx="2205000" cy="129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03440" y="3114720"/>
            <a:ext cx="78292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1280" y="458640"/>
            <a:ext cx="880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 u="sng">
                <a:solidFill>
                  <a:srgbClr val="000000"/>
                </a:solidFill>
                <a:uFillTx/>
                <a:latin typeface="Arial"/>
              </a:rPr>
              <a:t>Version améliorée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 quand V</a:t>
            </a:r>
            <a:r>
              <a:rPr b="1" lang="fr-CH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  est une source AC</a:t>
            </a:r>
            <a:r>
              <a:rPr b="1" lang="fr-C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295280"/>
            <a:ext cx="403848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i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 est assez éle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tel que w R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&gt;&gt;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LORS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3640" y="4059360"/>
            <a:ext cx="8321760" cy="30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Amélioration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mule simplifié, car w (resp. s) n’intervient 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n’apparaît pas dans la formule, m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met la valeur DC à la borne inverseuse à 0 V, ain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s de drift pour V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s de risque de saturation de l’amplificateu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érationnel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202360" y="3510000"/>
            <a:ext cx="3419280" cy="504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01640" y="1314360"/>
            <a:ext cx="3600360" cy="259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0DE-04D1-4F80-B039-D6BFEC82ED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914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chéma électrique</a:t>
            </a:r>
            <a:r>
              <a:rPr b="1" lang="fr-C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91440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rincipe de fonct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9144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66ff33"/>
                </a:solidFill>
                <a:latin typeface="Arial"/>
              </a:rPr>
              <a:t>phi1 = 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4419720"/>
            <a:ext cx="3352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3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= 0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1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C(x) se  charge à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C(x)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1 = 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5334120"/>
            <a:ext cx="3047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a charge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reste sur C(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3434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2 = 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4495680"/>
            <a:ext cx="36576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2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est transféré sur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avec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52578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2 = 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5334120"/>
            <a:ext cx="32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a charge de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ne chang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ne chang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8120" y="60944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91120" y="5978520"/>
            <a:ext cx="2133360" cy="655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800600" y="149400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ircuits à capacités commutées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115920" y="1314360"/>
            <a:ext cx="4365720" cy="28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6DE-EAFC-46D0-9360-061991A5F8A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914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chéma électr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97360" y="907920"/>
            <a:ext cx="39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rincipe de fonct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9144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1 = 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4419720"/>
            <a:ext cx="3352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3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= 0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1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C(x) se  charge à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C(x)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66ff33"/>
                </a:solidFill>
                <a:latin typeface="Arial"/>
              </a:rPr>
              <a:t>phi1 = 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334120"/>
            <a:ext cx="3047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a charge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reste sur C(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3434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2 = 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4495680"/>
            <a:ext cx="36576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2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est transféré sur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avec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2578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2 = 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5334120"/>
            <a:ext cx="32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a charge de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ne chang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ne chang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8120" y="60944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191120" y="5978520"/>
            <a:ext cx="2133360" cy="655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-36720"/>
            <a:ext cx="893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ircuits à capacités commuté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842000" y="1494000"/>
            <a:ext cx="4005000" cy="2655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15920" y="1314360"/>
            <a:ext cx="4365720" cy="283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AAB-D790-4237-93CB-0B241E39D36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5920" y="954000"/>
            <a:ext cx="822960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Accéléromètr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mesures d’accélé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: dimensions ~4mm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ur la pu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6640" y="5634000"/>
            <a:ext cx="8190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AIS mesure de petites (~1mg par effet tunn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 de grandes accélérations (jusqu’à 100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2360" y="2166840"/>
            <a:ext cx="4049640" cy="337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53F-7740-4FD9-9E5A-95F98CFA8F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914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chéma électr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97360" y="907920"/>
            <a:ext cx="38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rincipe de fonct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9144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1 = 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4419720"/>
            <a:ext cx="3352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3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= 0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1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C(x) se  charge à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C(x)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1 = 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334120"/>
            <a:ext cx="3047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a charge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reste sur C(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34340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66ff33"/>
                </a:solidFill>
                <a:latin typeface="Arial"/>
              </a:rPr>
              <a:t>phi2 = 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4495680"/>
            <a:ext cx="36576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2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est transféré sur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avec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525780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2 = 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5334120"/>
            <a:ext cx="32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a charge de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ne chang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ne chang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8120" y="60944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191120" y="5978520"/>
            <a:ext cx="2133360" cy="655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797360" y="1449360"/>
            <a:ext cx="4049640" cy="2744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560" y="53640"/>
            <a:ext cx="88218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ircuits à capacités commutée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15920" y="1314360"/>
            <a:ext cx="4365720" cy="283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203-144D-4BC0-8562-354AE3B1443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914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chéma électr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914400"/>
            <a:ext cx="40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rincipe de fonct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9144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1 = 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4419720"/>
            <a:ext cx="3352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3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= 0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1 condui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C(x) se  charge à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C(x)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1 = 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5334120"/>
            <a:ext cx="3047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a charge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reste sur C(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434340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hi2 = 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4495680"/>
            <a:ext cx="36576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T2 conduit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est transféré sur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avec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5257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66ff33"/>
                </a:solidFill>
                <a:latin typeface="Arial"/>
              </a:rPr>
              <a:t>phi2 = 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5334120"/>
            <a:ext cx="32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a charge de C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ne chang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ne chang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78120" y="60944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191120" y="5978520"/>
            <a:ext cx="2133360" cy="655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797360" y="1449360"/>
            <a:ext cx="4049640" cy="27446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6280" y="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Circuits à capacités commutée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15920" y="1314360"/>
            <a:ext cx="4365720" cy="28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886-FC6E-4512-89B1-65EF701D67D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sure de capacité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e capa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é différen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ircuits à compensation d’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echniques de dé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blèmes reliés au rapport signal à b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D48-9FDE-4CAE-B86E-65D77DA6B4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5126B-2B5E-423E-B5ED-2B69481D4E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800600" y="279360"/>
            <a:ext cx="350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Relation entrée-sort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1628640"/>
            <a:ext cx="43434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Remarqu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inter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Y remédier au moyen d’une électrode de g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35640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16880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Relation entrée-sort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4776840"/>
            <a:ext cx="2743200" cy="560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952880" y="955800"/>
            <a:ext cx="2667240" cy="549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50920" y="324000"/>
            <a:ext cx="4411440" cy="2865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297000" y="3662280"/>
            <a:ext cx="4365360" cy="303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779-40E7-474D-B011-20754EBC0D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sure de capacité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e capa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é différen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ircuits à compensation d’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echniques de dé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blèmes reliés au rapport signal à b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7E7-9CCB-499D-93B3-F7994AA0BA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09647-2F1C-4C0A-B31C-7F01158037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Chopper Stabilized Amp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80520" y="1989000"/>
            <a:ext cx="244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os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: offset sur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os2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: offset sur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401920" y="3693960"/>
            <a:ext cx="4419720" cy="2963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41280" y="1042920"/>
            <a:ext cx="6075360" cy="25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032-062F-407D-B2A8-B3C35A741A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Chopper Stabilized Amplifiers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60000" y="1976400"/>
            <a:ext cx="244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os1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: offset sur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os2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: offset sur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401920" y="3706920"/>
            <a:ext cx="4419720" cy="2962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341280" y="1042920"/>
            <a:ext cx="6077160" cy="253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218-2C16-4E26-BAD2-2D03FD68CE7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sure de capacité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e capa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é différen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ircuits à compensation d’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echniques de dé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blèmes reliés au rapport signal à b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489-2F0B-4CD3-8679-87C900065B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72F75-7406-437D-A59C-319C42CFD8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41280" y="35193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Illustration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952560"/>
            <a:ext cx="4038480" cy="28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i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LOR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fr-CH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suit  l’enveloppe de V</a:t>
            </a:r>
            <a:r>
              <a:rPr b="1" lang="fr-CH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715000" y="1996920"/>
            <a:ext cx="1828800" cy="487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5638680" y="1339920"/>
            <a:ext cx="2438640" cy="379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Détecteur de crê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266760" y="4038480"/>
            <a:ext cx="8610480" cy="2667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476280" y="954000"/>
            <a:ext cx="38703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800600" y="1898640"/>
            <a:ext cx="4038480" cy="3517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8600" y="1447920"/>
            <a:ext cx="43434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o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 signal 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émo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 c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ocale du signal de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3505320"/>
            <a:ext cx="46576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près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près fil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Démodulation synchr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22360" y="2798640"/>
            <a:ext cx="1935000" cy="274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477720" y="2076480"/>
            <a:ext cx="1716120" cy="274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385920" y="4059360"/>
            <a:ext cx="4227480" cy="288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792000" y="4599000"/>
            <a:ext cx="3403800" cy="60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332000" y="5634000"/>
            <a:ext cx="1550880" cy="60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DFF-5C39-4DCF-BCC9-937F1FD4BB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’accélération via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incipe de la mesure de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cas particulier: accéléromètre ADXL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33A-A1F2-4FE9-9C7F-5BCAB58E0D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B4FF0-88A2-4BEC-9A7C-D7B6261BA9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esure de capacité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e capa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é différen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ircuits à compensation d’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echniques de dé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blèmes reliés au rapport signal à b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DD5-C94B-4854-829E-701E9DC518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456E1-5005-4303-8367-C0622EC2A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Problèmes reliés au rapport signal à br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onsidérations géné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lus la tension liée à la mesure de C(x) est grande, plus    est grand, mais la force électrosta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ugmente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act variable en fonction de la fr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est une source DC: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est une source A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imiter la bande passante du système de manière à éliminer une certaine partie du bruit par fil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285920" y="2822400"/>
            <a:ext cx="1828800" cy="381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916280" y="2373480"/>
            <a:ext cx="231480" cy="380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886280" y="4329000"/>
            <a:ext cx="1655640" cy="341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4869000" y="4695840"/>
            <a:ext cx="1728720" cy="4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571-6980-4675-893E-F51A8A2C69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Problèmes reliés au rapport signal à bruit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as particulier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: circuits à capacités commut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s transistors ne sont pas idéa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apacités internes à charger et à déch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5E8-D3A7-4C3E-943A-3E18F5E53A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ED579-6BB0-467C-9771-8D7C8A4F97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’accélération via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incipe de la mesure de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cas particulier: accéléromètre ADXL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F32-BC2F-4D65-B048-587AFB987FF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D210E-BAEB-48E5-9545-F56562D7EB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: Principe de fonction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esure d’accélération via mesure capacitive du déplacement en boucle ouv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2 capacités différentielles pour la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2 capacités différentielles pour l’auto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389480" y="3594240"/>
            <a:ext cx="1552680" cy="21906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291280" y="59785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54480" y="3638520"/>
            <a:ext cx="0" cy="211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54840" y="3817800"/>
            <a:ext cx="180720" cy="1035360"/>
          </a:xfrm>
          <a:custGeom>
            <a:avLst/>
            <a:gdLst>
              <a:gd name="textAreaLeft" fmla="*/ 0 w 180720"/>
              <a:gd name="textAreaRight" fmla="*/ 126720 w 180720"/>
              <a:gd name="textAreaTop" fmla="*/ 42840 h 1035360"/>
              <a:gd name="textAreaBottom" fmla="*/ 992520 h 103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54840" y="5033880"/>
            <a:ext cx="180720" cy="495360"/>
          </a:xfrm>
          <a:custGeom>
            <a:avLst/>
            <a:gdLst>
              <a:gd name="textAreaLeft" fmla="*/ 0 w 180720"/>
              <a:gd name="textAreaRight" fmla="*/ 126720 w 180720"/>
              <a:gd name="textAreaTop" fmla="*/ 20520 h 495360"/>
              <a:gd name="textAreaBottom" fmla="*/ 47484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1640" y="3703680"/>
            <a:ext cx="14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Rég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esur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(42 cell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75440" y="4892760"/>
            <a:ext cx="140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Ré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’auto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(12 cell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50520" y="468792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69800" y="593892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104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08600" y="40543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08600" y="36939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784600" y="39816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68640" y="3498840"/>
            <a:ext cx="68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</a:rPr>
              <a:t>s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68320" y="33386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V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12960" y="3914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V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2948040" y="4046400"/>
            <a:ext cx="988920" cy="439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2951280" y="3478320"/>
            <a:ext cx="985680" cy="4381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1704960" y="3759120"/>
            <a:ext cx="988920" cy="439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313000" y="5281560"/>
            <a:ext cx="1520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= 1.3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08960" y="595476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 u="sng">
                <a:solidFill>
                  <a:srgbClr val="000000"/>
                </a:solidFill>
                <a:uFillTx/>
                <a:latin typeface="Arial"/>
              </a:rPr>
              <a:t>Épaisseur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: H =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0200" y="56214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792600" y="5349600"/>
            <a:ext cx="108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831-112C-4848-8FDA-60520F6EE6A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4927F-212B-4A2B-AD66-2FBBF955F3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: Pho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hip monolit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 grandes régions: région du capteur et région des circuits électriques auxili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8 connections vers l’ext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059280" y="3716280"/>
            <a:ext cx="2447640" cy="1944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010200" y="3716280"/>
            <a:ext cx="2449440" cy="1944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564000" y="4724280"/>
            <a:ext cx="936720" cy="7207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2000" y="3716280"/>
            <a:ext cx="2449440" cy="19461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16000" y="4365720"/>
            <a:ext cx="934920" cy="7207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716280"/>
            <a:ext cx="2449440" cy="19461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50920" y="5084640"/>
            <a:ext cx="1008360" cy="5763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050920" y="3716280"/>
            <a:ext cx="1008360" cy="649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500720" y="3716280"/>
            <a:ext cx="1511280" cy="1008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5445000"/>
            <a:ext cx="1511280" cy="216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289-F13A-46C4-9822-3A305A19C1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19B15-CB8E-4A6A-9A07-1E92A6FB82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413000" y="1898640"/>
            <a:ext cx="5776920" cy="16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: Schéma-b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chéma-bloc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de l’accéléromèt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ystème en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boucle ouvert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(tous les éléments sont assez linéaires, donc pas besoin de boucle ferm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s électrodes des capacités sont commandées par un signal mod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 sortie des capacités est amplifiée et démodul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 signal démodulé est fil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31640" y="19033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Oscill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74520" y="2871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mp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4880" y="28717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a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13440" y="2871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18800" y="2855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o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84160" y="35082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ccél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63760" y="3511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uto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85240" y="321624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émodul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ynch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7B4-5745-4CF8-B2EE-8236C8C84EA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3856320" cy="51847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: Spé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067280" y="1269720"/>
            <a:ext cx="5076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Fonction de transfert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CH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= tension d’ali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 = accél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i sensibilité de 38mV/g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st appelé le b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eut être compensé pour les mesures en DC à l’aide d’un pin spécial (à température const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’accéléromètre est 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atiométrique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par rapport à l’alimentation (veut dire l’offset et l’accélération sont proportionnels à la tension d’ali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2556000"/>
            <a:ext cx="3853080" cy="198360"/>
          </a:xfrm>
          <a:prstGeom prst="rect">
            <a:avLst/>
          </a:prstGeom>
          <a:gradFill rotWithShape="0">
            <a:gsLst>
              <a:gs pos="0">
                <a:srgbClr val="751700">
                  <a:alpha val="30196"/>
                </a:srgbClr>
              </a:gs>
              <a:gs pos="100000">
                <a:srgbClr val="ff3300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3419640"/>
            <a:ext cx="3853080" cy="234720"/>
          </a:xfrm>
          <a:prstGeom prst="rect">
            <a:avLst/>
          </a:prstGeom>
          <a:gradFill rotWithShape="0">
            <a:gsLst>
              <a:gs pos="0">
                <a:srgbClr val="751700">
                  <a:alpha val="30196"/>
                </a:srgbClr>
              </a:gs>
              <a:gs pos="100000">
                <a:srgbClr val="ff3300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1692360"/>
            <a:ext cx="3853080" cy="206280"/>
          </a:xfrm>
          <a:prstGeom prst="rect">
            <a:avLst/>
          </a:prstGeom>
          <a:gradFill rotWithShape="0">
            <a:gsLst>
              <a:gs pos="0">
                <a:srgbClr val="751700">
                  <a:alpha val="30196"/>
                </a:srgbClr>
              </a:gs>
              <a:gs pos="100000">
                <a:srgbClr val="ff3300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4284720"/>
            <a:ext cx="3853080" cy="223920"/>
          </a:xfrm>
          <a:prstGeom prst="rect">
            <a:avLst/>
          </a:prstGeom>
          <a:gradFill rotWithShape="0">
            <a:gsLst>
              <a:gs pos="0">
                <a:srgbClr val="751700">
                  <a:alpha val="30196"/>
                </a:srgbClr>
              </a:gs>
              <a:gs pos="100000">
                <a:srgbClr val="ff3300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9280" y="4716360"/>
            <a:ext cx="3853080" cy="243000"/>
          </a:xfrm>
          <a:prstGeom prst="rect">
            <a:avLst/>
          </a:prstGeom>
          <a:gradFill rotWithShape="0">
            <a:gsLst>
              <a:gs pos="0">
                <a:srgbClr val="751700">
                  <a:alpha val="30196"/>
                </a:srgbClr>
              </a:gs>
              <a:gs pos="100000">
                <a:srgbClr val="ff3300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5148360"/>
            <a:ext cx="3853080" cy="431640"/>
          </a:xfrm>
          <a:prstGeom prst="rect">
            <a:avLst/>
          </a:prstGeom>
          <a:gradFill rotWithShape="0">
            <a:gsLst>
              <a:gs pos="0">
                <a:srgbClr val="751700">
                  <a:alpha val="30196"/>
                </a:srgbClr>
              </a:gs>
              <a:gs pos="100000">
                <a:srgbClr val="ff3300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4859280" y="3032280"/>
            <a:ext cx="2008080" cy="261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4545000" y="4192560"/>
            <a:ext cx="162000" cy="1364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4881600" y="2792520"/>
            <a:ext cx="2705040" cy="187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5111640" y="1574640"/>
            <a:ext cx="2800440" cy="584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4467240" y="3821040"/>
            <a:ext cx="960480" cy="2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41E-B7F9-4DB8-B8FE-6324D7FDF1C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: Spécification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Réglage par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laser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au niveau de la gaufrette: offset, sensibilité, auto-test, fr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rmi les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8 pin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, seulement 5 sont utilisées en fonctionnement normal: l’alimentation, la masse, la sortie, l’auto-test et la calibration (compensation de l’off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s autres servent à des fonctions d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4C6-8185-4AA5-8939-E9A99828522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469EF-B6D5-4176-9D26-70CF35C0C7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: Design et modél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Capacit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vec 42 cellules et des petits déplac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permittivité du v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épaisseur du polysilici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longueur de la région de recouvr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gap au rep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la nous donne                                       . La capacité réelle est plus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que ces 60 fF, surtout parce qu’on a négligé les effets de b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832040" y="1141560"/>
            <a:ext cx="2089080" cy="550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1133640" y="2327400"/>
            <a:ext cx="1925640" cy="237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1116000" y="2637000"/>
            <a:ext cx="885960" cy="171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1116000" y="2887560"/>
            <a:ext cx="1181160" cy="1810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1116000" y="3141720"/>
            <a:ext cx="1143000" cy="1904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2824200" y="4581360"/>
            <a:ext cx="3476520" cy="201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5213520" y="1706400"/>
            <a:ext cx="2743200" cy="5400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9"/>
          <a:stretch/>
        </p:blipFill>
        <p:spPr>
          <a:xfrm>
            <a:off x="2479680" y="3594240"/>
            <a:ext cx="2308320" cy="48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501-129D-4D9F-8EDF-B1CBC5F7330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6C43B-C44C-4A1B-9F25-9BD3E0F9F2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Mesure d’accélération via dé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98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2 possibili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esure via la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éformatio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u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à l’aide d’un piézo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esure via le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éplacemen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e la m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7E2-70A0-4380-9514-530E0468A6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DC1D7-23F3-4A3F-A032-773DA59889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: Design et modélisation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9070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Raide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stimée à partir de la version dépliée de la po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module de Yo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largeur de la poutre, épaisseur du po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épaisseur de la pou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(longueur totale de la pou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qui nous donne:                                           (ceci est très proche de la valeur 5.4 N/m donnée par A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547640" y="1111320"/>
            <a:ext cx="2200320" cy="6620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826920" y="2565360"/>
            <a:ext cx="152640" cy="142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826920" y="2852640"/>
            <a:ext cx="924120" cy="1717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826920" y="3141720"/>
            <a:ext cx="1057320" cy="17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6"/>
          <a:stretch/>
        </p:blipFill>
        <p:spPr>
          <a:xfrm>
            <a:off x="826920" y="3382920"/>
            <a:ext cx="2486160" cy="190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7"/>
          <a:stretch/>
        </p:blipFill>
        <p:spPr>
          <a:xfrm>
            <a:off x="2484360" y="3933720"/>
            <a:ext cx="2479680" cy="2667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8"/>
          <a:stretch/>
        </p:blipFill>
        <p:spPr>
          <a:xfrm>
            <a:off x="1763640" y="5797440"/>
            <a:ext cx="5759640" cy="88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9"/>
          <a:stretch/>
        </p:blipFill>
        <p:spPr>
          <a:xfrm>
            <a:off x="3276720" y="4321080"/>
            <a:ext cx="2733480" cy="13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73D-19A6-4FDF-9CE1-E944260ADD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8D39C-7EAE-4339-AB23-F6A67E7D74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: Design et modélisation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90709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Fréquence de résona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(                 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Facteur de qualit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b est très difficile à estim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n ne considérant que le film d’air en dessous de la masse m, on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t on trouve que Q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n tenant compte également de l’air entre les doigts de la masse m, on trouve que Q =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vec les approximations ci-dessus, on sous-estime fortement b (la valeur de Q donnée par ADI vaut 5), d’où la nécessité de faire des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imul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49360" y="1649520"/>
            <a:ext cx="2087640" cy="2667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3338640" y="1052640"/>
            <a:ext cx="4978440" cy="674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2556000" y="2211480"/>
            <a:ext cx="1171440" cy="4968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837560" y="3203640"/>
            <a:ext cx="73980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9F5-4223-403C-A024-D38009F747C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1479C-D966-4F8B-AE6D-1CF220328B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360" y="2607840"/>
            <a:ext cx="81900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Processus 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iM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surface micromach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2AB-F357-43F0-8B76-29CBE0BDF18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99FB6-1230-4FAD-A94F-4E5BEC1C19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Etap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68800" y="495612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84520" y="509112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42200" y="46432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ircuit area  Senso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371600" y="3165480"/>
            <a:ext cx="6400800" cy="1395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20240" y="35640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n+ r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89560" y="35640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52360" y="3473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64520" y="401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- 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13080" y="374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734840" y="3816360"/>
            <a:ext cx="8892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92720" y="3743280"/>
            <a:ext cx="13680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88480" y="382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383080" y="3381480"/>
            <a:ext cx="18108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18080" y="30686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Gate Ox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457360" y="2976480"/>
            <a:ext cx="180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4520" y="2708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PCVD Nit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929880" y="3371760"/>
            <a:ext cx="53676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3080" y="30686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BP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51640" y="3833640"/>
            <a:ext cx="270000" cy="10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89520" y="500364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362-2D05-4DC5-A019-572B7F8168BC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38EAE-27D8-4056-8633-71DB71AFAC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371600" y="2779560"/>
            <a:ext cx="6400800" cy="21672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Etap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75600" y="396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n+ r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183440" y="3968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52360" y="3878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13840" y="43736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- 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62400" y="43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825200" y="4311720"/>
            <a:ext cx="8892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29520" y="4148280"/>
            <a:ext cx="9036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77400" y="414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836640" y="2889360"/>
            <a:ext cx="541440" cy="70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9520" y="2529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PCVD Nit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459160" y="2832120"/>
            <a:ext cx="8892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79960" y="24843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acrificial ox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732720" y="2604600"/>
            <a:ext cx="4428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605280" y="2259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ensor 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128600" y="3789360"/>
            <a:ext cx="338400" cy="2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7720" y="4006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BP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68800" y="54072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84520" y="554184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42200" y="509436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ircuit area  Senso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37360" y="33847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039520" y="35114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037360" y="279864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39880" y="288288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8A0-25D8-4A39-8A21-3686C9348E1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0F188-35AA-41E2-9FAC-5614E591F9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Etap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359000" y="2665440"/>
            <a:ext cx="6426000" cy="23954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20240" y="40593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n+ r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183440" y="4059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008080" y="3968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88440" y="45086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- 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59160" y="441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780920" y="4373640"/>
            <a:ext cx="8892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84880" y="4282920"/>
            <a:ext cx="9036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329520" y="423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867360" y="2336760"/>
            <a:ext cx="48924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33840" y="1989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ensor 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93200" y="3733920"/>
            <a:ext cx="3157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759080" y="37782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acrifi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ox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150920" y="3878280"/>
            <a:ext cx="31608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8440" y="4149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BP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2951280" y="3249360"/>
            <a:ext cx="18072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44880" y="28432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etal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971640" y="3159000"/>
            <a:ext cx="49536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4211640" y="2393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3800" y="2798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ECVD Nit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39160" y="203364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ECVD Ox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68800" y="54072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84520" y="554184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42200" y="509436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ircuit area  Senso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C65-D205-4F2C-B063-F8EEAC311B8F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A78C2-8B04-499C-8A44-AE480433A1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Etap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59000" y="2779560"/>
            <a:ext cx="6426000" cy="2167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585240" y="396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n+ r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43480" y="3968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08080" y="3878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53440" y="4464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- 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03800" y="43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827000" y="4284720"/>
            <a:ext cx="8892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19880" y="4148280"/>
            <a:ext cx="9036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64520" y="4103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150920" y="3789360"/>
            <a:ext cx="2714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7360" y="42386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BP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2862360" y="3068280"/>
            <a:ext cx="22392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009880" y="27082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etal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1241280" y="3024000"/>
            <a:ext cx="31464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9160" y="2619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ECVD Nit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192720" y="2604600"/>
            <a:ext cx="4464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14880" y="23036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ensor 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807000" y="2978280"/>
            <a:ext cx="4572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83440" y="26622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ECVD Ox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168800" y="53625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84520" y="549756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42200" y="50497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ircuit area  Senso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81D-D91E-4EE7-83DB-CE3AEFD8E8B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75158-4761-4F8F-B6EA-4FBB65755F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Remar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820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t (transistor, senseur…) est fait en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1 seule pass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l faut faire attention au moment de la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éc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utilisation d’une méthode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standard (14-p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4C2-BAFE-428D-9ACF-29423261E28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Remarqu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24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lysilicon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u sense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implants P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R=150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/car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- taille des grains: 0.3-0.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- tension finale (après traitement thermique): 40-75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pas d’effet su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Design plié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 permet de supprimer les contraintes axiales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MAIS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 doit être plutôt </a:t>
            </a:r>
            <a:r>
              <a:rPr b="0" i="1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tensile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 pour éviter une déformation si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con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Également limitation du </a:t>
            </a:r>
            <a:r>
              <a:rPr b="0" i="1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gradient vertical de tension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longueur max: 150-180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25E-D6E3-4851-A744-3D78F25A862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Perform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Sensibilité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dans l’ax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déterminée par le b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mg/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√Hz dans 10Hz-1kHz (2 fois le bruit Brown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m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= 32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croisée dans le plan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k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ros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&gt;&gt;k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croisée perpendiculair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: section carrée →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,per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,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MAIS 1. amortissement beaucoup plus 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2. C différentielle non influencée au 1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or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44920" y="3805200"/>
            <a:ext cx="53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    →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 minimum observable: 10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-18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1827360" y="3387600"/>
            <a:ext cx="2197080" cy="5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F76-A044-445D-A190-7D734DF8F56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tude du système dynam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nction de transfe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réquence de ré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acteur de qualit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080320" cy="148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42000" y="2498760"/>
            <a:ext cx="3130560" cy="75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92640" y="3433680"/>
            <a:ext cx="1270080" cy="716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246640" y="4373640"/>
            <a:ext cx="14400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2997360" y="5402160"/>
            <a:ext cx="368928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241-4653-4EAF-9161-7B30DB4022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6E49F-D2C6-49D8-AD22-D398127049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ADXL150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Performanc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Offse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2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alignement dans le champ terrestre (effet de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gaps pas parfait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C diffé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force appliquée sur la masse à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l’allu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attention aux variations de V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: 1% d’écart →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x=0.00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m (0.0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N, presqu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5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Gain des amplis o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réglés avec précision par 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25C-BB38-4CA4-BE20-E0B58E3985C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7DBE5-ED3D-4A64-99F2-6B49DEBAE2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’accélération via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incipe de la mesure de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cas particulier: accéléromètre ADXL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358-4E71-4F4E-9912-D5A0CEA4C6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75CEB-C0E7-43BB-9619-384A334B3F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Exemples d’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esures d’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ccélération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ou de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hoc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ans le domaine automobile (airbags): le traitement du signal permet de dire s’il s’agit d’un accident ou 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esures d’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inclinaiso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(til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ans le domaine automobile ou aérospatial: 3 accéléromètres donnent l’orientation 3D dans l’espace (en combinaison avec GPS donne des systèmes de navigation perform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3 accéléromètres + 3 gyroscopes donnent l’orientation et la vitesse de rotation 3D dans l’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2232000" y="2263680"/>
            <a:ext cx="4410000" cy="166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A69-202A-4DBC-90E5-43353747BCB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9DCF3-5DA6-44F1-B8E1-A4DEF6548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Exemples d’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esures de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vibration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800" spc="-1" strike="noStrike">
                <a:solidFill>
                  <a:srgbClr val="000000"/>
                </a:solidFill>
                <a:latin typeface="Arial"/>
              </a:rPr>
              <a:t>Domaine industriel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: permettent de mesurer l’«état de santé» de moteurs, de pompes, de compresseurs, par analyse des 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800" spc="-1" strike="noStrike">
                <a:solidFill>
                  <a:srgbClr val="000000"/>
                </a:solidFill>
                <a:latin typeface="Arial"/>
              </a:rPr>
              <a:t>Domaine médical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remblement de la main, mesures cardiaques, etc.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utres application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intéress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ub-woofer a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timulateur neuro-musc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larme de vo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ntrôle du curseur dans u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Équilibrage de la charge dans les machines à la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Tremblements de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44D-9BC2-4977-AEE2-274BD650D87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0B154-D950-4368-9F5E-1C4B3E51C4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951280" y="4689360"/>
            <a:ext cx="5806800" cy="12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émo du </a:t>
            </a: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ADXL2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2000" y="1224000"/>
            <a:ext cx="88200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DXL202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: 2 ax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g, résolution de 5mg, sortie analogique ou P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ert surtout aux mesures d’inclinaison, à la détection de mouvement, dans les alarmes de voiture et dans les accessoires de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ci: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mesure d’inclinai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axe x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axe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sur l’oscil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y en fonction d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le point décrit un ce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le rayon va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l’angle dépend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l’orientatio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l’accéléromè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2954160" y="2546280"/>
            <a:ext cx="5803920" cy="21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637000" y="49132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14440" y="5184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355560" y="5229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16280" y="522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97360" y="5229360"/>
            <a:ext cx="36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97360" y="522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21280" y="5229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921280" y="4914720"/>
            <a:ext cx="0" cy="314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686280" y="5227560"/>
            <a:ext cx="36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047000" y="4869000"/>
            <a:ext cx="0" cy="358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7811640" y="52722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172360" y="527220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83120" y="51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18080" y="536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015920" y="5275440"/>
            <a:ext cx="630360" cy="63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11280" y="5319720"/>
            <a:ext cx="903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36640" y="5589720"/>
            <a:ext cx="10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32000" y="518472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332000" y="5275080"/>
            <a:ext cx="31428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481-3457-41FC-8F01-81CAD0C6F8BF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01E95-A7AB-49C5-B615-52D3429477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ffet du sig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0328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céléromètre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quasi-statiqu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ns ce 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 on veut u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éponse rap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5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86280" y="1854360"/>
            <a:ext cx="4095720" cy="3236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847960" y="1803240"/>
            <a:ext cx="1768320" cy="303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76280" y="4133880"/>
            <a:ext cx="4103640" cy="268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82680" y="5186520"/>
            <a:ext cx="4684680" cy="74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227240" y="2376360"/>
            <a:ext cx="2633400" cy="6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4CE-EA8A-43B0-B18C-46B774D5CD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6E90B-129D-4962-8999-3E38706FE6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Effet du br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042560"/>
            <a:ext cx="864216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Bruit de mouvement brownie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 pratique, le SNR (et donc la sensibilité) sont limités par d’autres eff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ircuits de mesure (ampli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rreurs de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e fait d’ajouter de la raideur à la structure (pour augmenter la fréquence de réso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67000" y="1449360"/>
            <a:ext cx="2691000" cy="50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557360" y="2033640"/>
            <a:ext cx="5864040" cy="828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692360" y="3416400"/>
            <a:ext cx="5622840" cy="77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EB0-59D1-46C7-AB06-39A07BC810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’accélération via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incipe de la mesure de dé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sure de capa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cas particulier: accéléromètre ADXL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ystè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801-A99B-4F7D-819F-7A99A8AF48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E1751-8891-4358-97B2-56665163A6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53a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9:58:44Z</dcterms:created>
  <dc:creator>Maxime</dc:creator>
  <dc:description/>
  <dc:language>en-US</dc:language>
  <cp:lastModifiedBy>Maxime</cp:lastModifiedBy>
  <dcterms:modified xsi:type="dcterms:W3CDTF">2004-02-26T12:51:09Z</dcterms:modified>
  <cp:revision>366</cp:revision>
  <dc:subject/>
  <dc:title>Microaccéléromètre</dc:title>
</cp:coreProperties>
</file>