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586-7BBF-4066-845A-C7E81C5B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F14-B750-4F99-8684-AAF644E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F6D-2E0D-40CF-B059-774CA25C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DC7-AD6D-4C5B-9E60-63D4CF89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65E-4859-4126-8763-BA2987C4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C8D-5EF0-4EBE-9E7B-DB9CA9E4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CEE5-DA5C-4D06-9E52-D1341D3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66E6-C26A-490A-958E-D475759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C530-B277-48DF-B266-48C3F60A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E8FB-82E4-442A-A1F0-CA662209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CEE-6F15-43C3-8527-B6E4A45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143-5A09-4BE4-9BB2-F805743F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FC0-5242-4CDF-8AD3-ED59454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5460-E7A6-4B54-B378-6773211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6B7-566B-4D63-99A2-E13A836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AC06-025C-40D9-AD6A-2C6BF74D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851-399F-442C-B1C6-F65735E7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1A1-251B-42F5-AAC0-4DE5E1DC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D4A-FB6A-41DF-A44F-C6C7D1B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FF5-431E-4BE5-AF44-CDF2659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C79-FF11-4E9C-840E-18C01E5B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5C4-B10E-4C06-B762-0E7EC39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A7C-4481-4A16-95C5-BFD0B84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DAF-49B2-4035-BB0F-5FF88D4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F26-3F2C-4B64-9D93-FD5546EF9F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32000" y="638280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CCC-8EA5-4C8C-8715-A01E1271A6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843-4694-4A7A-A840-26323CDED5B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105-9AD1-46B7-B9EB-465EB271B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336600"/>
                </a:solidFill>
                <a:latin typeface="Arial"/>
              </a:rPr>
              <a:t>Détection d’un train et de bulles dans une séquence vidéo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DECHESNE Maxime (3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DETHIER Gérard (2LI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ATHES Tom (3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IRONT Guillaume (2LI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IES Philippe (3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218-5E2E-4444-B460-412AB83AE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cquisition de la ROI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alcul approximatif des bords verticaux de la fu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 projections vertic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ous les pixels dont la brilliance dépasse un certain seu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ous les pixels dont la teinte et la saturation sont compris dans un certain inter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ous les pixels dont la te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t la saturation présente 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tion minimale d’un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à la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duit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cherche du maxim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onne la po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pproximative de la fu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38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Acquisition de la R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98100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Détection des bords horizontaux de la partie transpa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jection horizontale des valeurs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euillage par une courbe qui suit l’allur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’autre cou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ord supérieur imméd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ord inférieur facile à calculer par rais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géomé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16000" y="3933720"/>
          <a:ext cx="478620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933720"/>
                    <a:ext cx="47862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2125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cquisition de la ROI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éajustage des bords verticaux de la région d’inte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ord inférieur du so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acile à trou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étermination 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oints de coupure 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auche et à dr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 milieu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usée cor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 milieu de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421320" y="1557360"/>
            <a:ext cx="2486160" cy="50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2843280" y="2276640"/>
          <a:ext cx="3270240" cy="36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2276640"/>
                    <a:ext cx="327024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196-79E4-4612-8767-20B0382C00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Acquisition de la ROI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Réacquisition de la région d’interê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 tests pour la redét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ariation cumulée de V d’une image à l’autre dans la région d’intérêt dépasse un certain seuil (test effectué à chaque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edétection de la région d’intérêt (test effectué toutes les 5 im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i la première condition n’est pas vérifiée, ou si à plusieurs reprises la nouvelle région d’intérêt n’est pas dans le voisinage de l’ancienne, on change de région d’intérê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307-353D-410D-B0D9-6CFFB8F2D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4032360" cy="3073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Traitement des bulle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évidence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rtie dominante en te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nombre de pix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ROI est l’arrière-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émenta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seuillage on ne g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s pixels de la ROI tel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&lt; a   ou   X &g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60680" y="198900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s les plus fréquentes =&gt; arrière-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s les plus dispersées =&gt; bu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D17-1786-486B-AE85-82C534507D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Traitement des bulle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morphologique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’agit de “nettoyer” l’image binaire avant de compter les compos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xes,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s faussent le calcul des 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tites taches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ugme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rtificiel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 nombre de bu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SzPct val="11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termination de  l’arrière-fond pour fermer les trous dans les bu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1395360" cy="3097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164360" y="3500280"/>
            <a:ext cx="1395360" cy="3168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92360" y="3718080"/>
            <a:ext cx="2448000" cy="2665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lus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ante conn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ère 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complé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s sans t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50148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508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Traitement des bulle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morphologique des bull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SzPct val="11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suite d’érosions et de dilatations enlève les dernières t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93720" y="2637000"/>
            <a:ext cx="1501920" cy="3671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016760" y="2637000"/>
            <a:ext cx="1515960" cy="381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00400" y="2637000"/>
            <a:ext cx="2592360" cy="374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verture avec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ement structurant (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si proch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d’un di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aille de SE dé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aille des t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imin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36760" y="429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1840" y="429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Traitement des bulle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nexité et surface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omposantes connexes par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e repris dans Shapiro et Stock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ne fonction 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ursive_connected_component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court l’imag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our chaque nouvelle composante connex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contrée ,une fon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étiquet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cursivement l’entièreté de cette compos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t compte de la contribution d’un pixel à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urface d’une composante connexe en mê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qu’elle lui attribue son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omposantes touchant au moi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des bords de la fu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bulles pour mieux mettre e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vidence le rés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020000" y="2133720"/>
            <a:ext cx="163044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1AB-A152-425A-9C64-7C038F4526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erface grap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u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35E-0E51-4632-B785-308BEC5F8D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Traitement du trai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étermination de la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alcul des paramètres géomét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obust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97E-78AA-403A-A992-74C0D45CB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erface grap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u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C78-7EB4-4F0F-B466-48C4115A3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Détermination de la ROI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étermination du fantô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258444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as d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tilisation des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ifférences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ésentes dans 5 im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uccess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 choix de 5 est fixé pa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nditions de robustesse (train t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nt ou très rapide, acqui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f problème de superposition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ant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5760" y="2535120"/>
            <a:ext cx="4332240" cy="3230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>
            <a:off x="2700000" y="3068640"/>
            <a:ext cx="647640" cy="360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59560" y="272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8f8f8"/>
                </a:solidFill>
                <a:latin typeface="Arial"/>
              </a:rPr>
              <a:t>Zone des bu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342-F836-4068-A41D-DE0006AA4B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Détermination de la ROI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ssage en NB/retrait des bu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408040" cy="18111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348000" y="4365720"/>
            <a:ext cx="2417760" cy="1807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047240" y="40053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uil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44880" y="4005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uil=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243480" y="4340160"/>
            <a:ext cx="2432160" cy="1825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24520" y="4005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uil=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06064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Passage en NB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Xlim travaille en niveaux de 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uillage sur la norme 1 en RG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mportance du choix du seuil (choix: non adaptat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ur le niveau de br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Retrait des bulles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ar masq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DFA-5F01-4A64-9331-473126E376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Détermination de la ROI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453680"/>
            <a:ext cx="82263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00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lt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52600" y="2484360"/>
            <a:ext cx="4235400" cy="3176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924440" y="1916280"/>
            <a:ext cx="404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Élimination du bruit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(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incipale: poiss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4 érosions par élément structur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n 4-connex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 choix de 4 est fix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mpiriquement pour éliminer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ois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4-connexité car bu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« rond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étermination de la ROI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en ten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pte des érosions (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pensées): évite 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reconstruction sur toute l’i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temps &gt;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17F-AA6E-4D1B-A912-10A6A4997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alcul des paramètres géométrique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construction du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rès coûteux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→ minimiser la zone d’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On prend la référence dans le fantôme NB </a:t>
            </a:r>
            <a:r>
              <a:rPr b="0" lang="fr-BE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ant érosion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Correction des imperfections (remplissage des trous/lissage des bords)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réalisant une fermeture préalable avec un élément de taille 2 en 8-connex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Ici on utilise la 8-connexité car le train est plutôt « rectangulaire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152880" y="4730760"/>
            <a:ext cx="2832120" cy="1219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067120" y="594216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xemple d’image obtenue après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8A4-F322-4264-A266-6FD5495334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alcul des paramètres géométrique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ait de l’ombre (option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mplémenté en dern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rtement lié aux caractéristiques du local de développement (parquet clair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’ombre est considérée comme étant la zone globalement plus c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arfois très efficace mais il reste des défa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tilisation optionnelle au lancement du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327-9544-4C82-B276-F6E4260C3A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alcul des paramètres géométrique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chnique des rayons maxim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alcule l’ensemble des valeurs géométriques et ce simultanément (périmètre, aire, centre de gravi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dée de base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n transforme notre train en un polygone et on calcule les paramètres géométriques sur ce dernier. Pour se faire, l’ensemble des pixels détectés comme point du périmètre « extérieur » sont les points du polyg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824-7FAA-4586-9DF4-91E5D90049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1600200"/>
            <a:ext cx="7696080" cy="48769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143000" y="3354480"/>
            <a:ext cx="4465800" cy="2970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alcul des paramètres géométrique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838080" y="1782720"/>
            <a:ext cx="2125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352680" y="1641600"/>
            <a:ext cx="2286000" cy="1635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997600" y="1600200"/>
            <a:ext cx="2308320" cy="1714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2092320" cy="1393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48120" y="2133720"/>
            <a:ext cx="228600" cy="838080"/>
          </a:xfrm>
          <a:prstGeom prst="rightArrow">
            <a:avLst>
              <a:gd name="adj1" fmla="val 53028"/>
              <a:gd name="adj2" fmla="val 5347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133720"/>
            <a:ext cx="228600" cy="838080"/>
          </a:xfrm>
          <a:prstGeom prst="rightArrow">
            <a:avLst>
              <a:gd name="adj1" fmla="val 53028"/>
              <a:gd name="adj2" fmla="val 5347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7010280" y="3200400"/>
            <a:ext cx="228600" cy="838080"/>
          </a:xfrm>
          <a:prstGeom prst="rightArrow">
            <a:avLst>
              <a:gd name="adj1" fmla="val 53028"/>
              <a:gd name="adj2" fmla="val 5347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5638320" y="4191120"/>
            <a:ext cx="228600" cy="838080"/>
          </a:xfrm>
          <a:prstGeom prst="rightArrow">
            <a:avLst>
              <a:gd name="adj1" fmla="val 53028"/>
              <a:gd name="adj2" fmla="val 5347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5300640"/>
            <a:ext cx="2133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echnique des rayons maxim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ppliquée à une imag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195-048C-4190-A84F-CCD927B113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alcul des paramètres géométrique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752480"/>
            <a:ext cx="8226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Rapidité : Complexité O(w+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nctionnement optimal si la ROI entoure de façon optimale le train et si ce dernier rapproche au plus la forme de la ROI (rectang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écision : Périmètre (+ aire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entre de gravité) réel est obt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orsque l’objet est convexe, et 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pproximé sinon (taux d’err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ai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s situations probléma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ont automatiquement évi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0" y="3260880"/>
            <a:ext cx="3960720" cy="300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529-BE61-4895-A8C9-27F0B10B6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Robustess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ditions init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nsensible 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uil minimal d’éclairage néces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oblèmes locaux de détection de l’ombre si éclairage très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odification pon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erturbations complètement éliminées après 5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707-09DD-424B-A7CB-55F0142F7B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erface grap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u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CEC-3913-4B05-A04D-2549362AEF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Interface graphiqu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TK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ructure de la fen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munication interface -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664-D7EA-4A0C-8769-A19DD9FF3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GTK+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’est-ce que GTK+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he GIMP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ganisation orientée - 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dèle orienté évèn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09E-A842-45FE-BD17-662505A83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GTK+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urquoi avoir choisi GTK+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er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ien documenté et connu (donc existence de nombreux forums lui étant consacr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ésavantages de GTK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écessite une implémentation parall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247-5F0C-4B8D-A8F6-285B513265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Structure de la fenêt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3080" y="1598760"/>
            <a:ext cx="4311720" cy="4497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443640" y="2205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47080" y="20080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Zone d’affich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s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716360" y="141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03440" y="1144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arre d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76364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5440" y="155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88000" y="522900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1800" y="49608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Zone d’affic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630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91240" y="61657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outon 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0AE-E596-44CA-96C4-C380E0946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6600"/>
                </a:solidFill>
                <a:latin typeface="Arial"/>
              </a:rPr>
              <a:t>Communication interface -programme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2492280"/>
            <a:ext cx="2087640" cy="208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00720" y="2421000"/>
            <a:ext cx="1943280" cy="208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19280" y="2924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4160" y="213372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rcer l’affich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 l’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419280" y="4005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3240" y="407664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onner l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à affi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8880" y="3284640"/>
            <a:ext cx="96552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85928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59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86F-0F47-4CAA-99A3-FD4319028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66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erface grap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aitement du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DB1-8976-42BB-9713-73E6C2DB18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6600"/>
                </a:solidFill>
                <a:latin typeface="Arial"/>
              </a:rPr>
              <a:t>Traitement des bulle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quisition de la région d’intérêt (partie transparente de la fusée contenant les bul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raitement des b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Rema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ous certaines conditions, il peut y avoir u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éacquisition de la région d’intérêt (lors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la fusée est déplacé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tement numérique des ima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49B-CFB1-4D2D-A224-CAAE0BFDD8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38:54Z</dcterms:created>
  <dc:creator>Gérard</dc:creator>
  <dc:description/>
  <dc:language>en-US</dc:language>
  <cp:lastModifiedBy>Maxime</cp:lastModifiedBy>
  <dcterms:modified xsi:type="dcterms:W3CDTF">2004-02-02T08:33:17Z</dcterms:modified>
  <cp:revision>84</cp:revision>
  <dc:subject/>
  <dc:title>L’interface graphique</dc:title>
</cp:coreProperties>
</file>