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557-7A4B-45C8-8551-59AD63B5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90-FB50-446B-919F-E7AF5F4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77F-AB12-414B-B194-4B12E8E9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16C-718A-4D4E-A47D-E87BE440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B28-6887-443B-91DB-B1A880B5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346-F944-4F46-8ED8-2A16CB80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B26-9CB5-40EE-B093-A86B04DE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E24-4FE9-4C39-9ACA-E1DDD70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D36-7C18-4B7B-A57F-FAE7452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859-D2EB-409B-851A-74ADA0E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92C-63B1-41E2-AA71-55B66D69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FE0-7DE9-44C7-8D74-DAFA569B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B572-FB81-4BE2-BB30-44A85947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Verdana"/>
              </a:rPr>
              <a:t>Denial of Service and </a:t>
            </a:r>
            <a:br>
              <a:rPr sz="3600"/>
            </a:br>
            <a:r>
              <a:rPr b="1" lang="fr-BE" sz="3600" spc="-1" strike="noStrike">
                <a:solidFill>
                  <a:srgbClr val="003366"/>
                </a:solidFill>
                <a:latin typeface="Verdana"/>
              </a:rPr>
              <a:t>Distributed Denial of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120" y="3504960"/>
            <a:ext cx="2667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Laurence Herb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Christophe Bon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Benoit Jose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Xavier Seron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5040" y="870120"/>
            <a:ext cx="839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our détecter la règle dans le cas d’une version patchée, il suffit d’appliquer la règle suivan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514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alert icmp $EXT_NET any -&gt; $HOME_NET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(msg:’’ICMP less four bytes’’; itype: 8; dsize: &lt;4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44792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6600"/>
                </a:solidFill>
                <a:uFillTx/>
                <a:latin typeface="Verdana"/>
              </a:rPr>
              <a:t>D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6600"/>
                </a:solidFill>
                <a:latin typeface="Verdana"/>
              </a:rPr>
              <a:t>Distributed 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67652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Qu’est ce qu’un D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escript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étection des erreurs 4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 compteur sous Snort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e règle sous sn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Qu’est ce qu’un D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82880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es DDoS ont le même but que les DoS : mettre à genou une c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a principale différence est que l’attaque est distribuée sur une multitude 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Première étap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: se rendre maître de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lusieurs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i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Deuxième étap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: lancer l’attaque à partir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e ses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Descript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Attaque DDoS contre le serveur web du World Economic Fo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ropagée par un mouvement Hacktivist avec une date de synchro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Télechargement volontaire de l’applet utilisée pour cet explo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4495680"/>
            <a:ext cx="8610480" cy="1937880"/>
            <a:chOff x="762120" y="4495680"/>
            <a:chExt cx="8610480" cy="1937880"/>
          </a:xfrm>
        </p:grpSpPr>
        <p:sp>
          <p:nvSpPr>
            <p:cNvPr id="125" name=""/>
            <p:cNvSpPr/>
            <p:nvPr/>
          </p:nvSpPr>
          <p:spPr>
            <a:xfrm>
              <a:off x="1219320" y="4495680"/>
              <a:ext cx="815328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chargé par environ 100.000 person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pas de prise de contrôle des machines de la part des Hacktivis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62120" y="4648320"/>
              <a:ext cx="457200" cy="790560"/>
              <a:chOff x="762120" y="4648320"/>
              <a:chExt cx="457200" cy="790560"/>
            </a:xfrm>
          </p:grpSpPr>
          <p:sp>
            <p:nvSpPr>
              <p:cNvPr id="127" name=""/>
              <p:cNvSpPr/>
              <p:nvPr/>
            </p:nvSpPr>
            <p:spPr>
              <a:xfrm>
                <a:off x="762120" y="4648320"/>
                <a:ext cx="457200" cy="257040"/>
              </a:xfrm>
              <a:prstGeom prst="rightArrow">
                <a:avLst>
                  <a:gd name="adj1" fmla="val 50000"/>
                  <a:gd name="adj2" fmla="val 44468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5181480"/>
                <a:ext cx="457200" cy="257400"/>
              </a:xfrm>
              <a:prstGeom prst="rightArrow">
                <a:avLst>
                  <a:gd name="adj1" fmla="val 50000"/>
                  <a:gd name="adj2" fmla="val 44406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2362320"/>
            <a:ext cx="7391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’attaque permet de nuire au serveur de deux manières différen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Flood : recharger une page invalide sur le serveur une grand nombre de fois par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pam : laisser un message d’erreur sur le serveur. Possible car journalisation des requêtes par les serveurs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particulièrement les erreurs 404)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Effet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2819520"/>
            <a:ext cx="8305920" cy="1191240"/>
            <a:chOff x="838080" y="2819520"/>
            <a:chExt cx="8305920" cy="1191240"/>
          </a:xfrm>
        </p:grpSpPr>
        <p:sp>
          <p:nvSpPr>
            <p:cNvPr id="133" name=""/>
            <p:cNvSpPr/>
            <p:nvPr/>
          </p:nvSpPr>
          <p:spPr>
            <a:xfrm>
              <a:off x="1523880" y="2819520"/>
              <a:ext cx="762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Vu la journalisation des erreurs 404 sur le serveur, les fichiers de logs gonflent jusqu’à saturer la mémoire du serveu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289548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38080" y="1676520"/>
            <a:ext cx="8305920" cy="825480"/>
            <a:chOff x="838080" y="1676520"/>
            <a:chExt cx="8305920" cy="825480"/>
          </a:xfrm>
        </p:grpSpPr>
        <p:sp>
          <p:nvSpPr>
            <p:cNvPr id="136" name=""/>
            <p:cNvSpPr/>
            <p:nvPr/>
          </p:nvSpPr>
          <p:spPr>
            <a:xfrm>
              <a:off x="1523880" y="16765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3366"/>
                  </a:solidFill>
                  <a:latin typeface="Verdana"/>
                </a:rPr>
                <a:t>La machine est incapable de répondre à l’énorme quantité de requê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82880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 – Essais/err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82880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Verdana"/>
                <a:ea typeface="Times New Roman"/>
              </a:rPr>
              <a:t>Solu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Piste des compt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ssais - Err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olutions ret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Piste des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ssais - Err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olutions ret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 – Piste des com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828800"/>
            <a:ext cx="807696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mpter le nombre d ’erreurs « 404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Serveur : nombre d ’erreurs 404 retournées par client pendant un laps de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Verdana"/>
              </a:rPr>
              <a:t>Client : nombre d ’erreurs 404 reçues par utilis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mpter le nombre de requêtes par UR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mpter le nombre de requêtes (ciblées) par un      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Réalisation de l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523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752480"/>
            <a:ext cx="815328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Réalisation d’un préprocesseur qui compte le nombre d’erreurs 404 par utilisa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S’adapte aussi bien à un serveur qu’à de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Times New Roman"/>
              </a:rPr>
              <a:t>preprocessor http_404: -src -to:60 -nb:10 -ti:6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Gestion par liste circulaire doublement l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Vérification sur base d’un seuil et d ’un intervalle de temps selon la formu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Times New Roman"/>
              </a:rPr>
              <a:t>Count=Count*exp(K1*(Now-Time))+K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44792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6600"/>
                </a:solidFill>
                <a:uFillTx/>
                <a:latin typeface="Verdana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ff6600"/>
                </a:solidFill>
                <a:latin typeface="Verdana"/>
              </a:rPr>
              <a:t>Signature de l’attaque</a:t>
            </a: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Verdana"/>
              </a:rPr>
              <a:t>D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mélioration du préproces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05740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Le préprocesseur pourrait s’adapter au cas des requêtes va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-&gt; compter le nombre de requêtes effectuées par client vers certaines pages particulières (.html, .php, .jsp, .jpg, 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 – Piste des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828800"/>
            <a:ext cx="8153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nsertion de valeurs particulières dans l ’en-tête HTTP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étection de l’applet sur une page html : détection de la balise &lt;applet&gt; et de son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étection de mots particuliers dans le fichier « .clas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étection du chargement d ’applet à partir de sites su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Réalisation de l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523880"/>
            <a:ext cx="807732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Détection de la présence de l ’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-&gt; le nom de l’appl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alert tcp any 80 -&gt; $HOME_NET 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(msg:"Flooding Applet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"&lt;applet"; noc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"zapsfloodnetpublic1.class"; nocase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-&gt; les paramètres de l’appl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alert tcp any 80 -&gt; $HOME_NET 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(msg:"Flooding param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 " targetUrl "; noca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ff6600"/>
                </a:solidFill>
                <a:latin typeface="Courier New"/>
              </a:rPr>
              <a:t>content:"evade";  nocase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2286000"/>
            <a:ext cx="822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Détection du chargement d’applet à partir de sites su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Courier New"/>
              </a:rPr>
              <a:t>alert tcp $HOME_NET any -&gt; 192.168.1.44/32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Courier New"/>
              </a:rPr>
              <a:t>(msg:"flooding server"; uricontent:".class";nocase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Réalisation de la solutio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81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6600"/>
                </a:solidFill>
                <a:latin typeface="Verdana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6600"/>
                </a:solidFill>
                <a:latin typeface="Verdan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67652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Rap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Qu’est ce qu’un 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escritp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aus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e règle sous sn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Qu’est-ce qu’un D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002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Elles consistent à paralyser temporairement (rendre inactif pendant un temps donné) des serveurs afin qu’ils ne puissent être utilisés et  consul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e </a:t>
            </a: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but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d’un telle attaque n’est pas d’obtenir ou d’altérer des données, mais de nuire à des sociétés dont l’activité repose sur un système d’information en l’empêchant de fonctionner.</a:t>
            </a: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Descritpion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9810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47920"/>
            <a:ext cx="83059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réation d’un déni de service sur l’outil Snort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version 1.8.3)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à l’aide d’envoi de trame ICMP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ECHO 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Pour réaliser l’attaque, il suffit d’envoyer une trame ICMP de type ECHO REQUEST dont la taille des données est inférieure à 4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Comment ?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En utilisant la commande </a:t>
            </a:r>
            <a:r>
              <a:rPr b="1" i="1" lang="fr-BE" sz="2400" spc="-1" strike="noStrike">
                <a:solidFill>
                  <a:srgbClr val="003366"/>
                </a:solidFill>
                <a:latin typeface="Verdana"/>
              </a:rPr>
              <a:t>ping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ping –s 1 stal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’option –s 1 spécifie que l’on ne transmet que 1 byte de donn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onséquenc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86000"/>
            <a:ext cx="777240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uivant les règles utilisées dans la configuration de Snort, le résultat de l’attaque diffè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oit Snort se crash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(Erreur de segm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Soit Snort affiche à l’écran une trame dont le contenu est la mémoire de la machine attaqu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Cela est dû à l’interraction des règles utilisées   dans Sn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00600"/>
            <a:ext cx="457200" cy="257040"/>
          </a:xfrm>
          <a:prstGeom prst="rightArrow">
            <a:avLst>
              <a:gd name="adj1" fmla="val 50000"/>
              <a:gd name="adj2" fmla="val 4446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aus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37160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66"/>
                </a:solidFill>
                <a:latin typeface="Verdana"/>
              </a:rPr>
              <a:t>Pacquet ICMP (encapsulé dans un datagramme 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133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040" y="25909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3366"/>
                </a:solidFill>
                <a:latin typeface="Verdana"/>
              </a:rPr>
              <a:t>20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35268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320" y="34290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3366"/>
                </a:solidFill>
                <a:latin typeface="Verdana"/>
              </a:rPr>
              <a:t>8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048120"/>
            <a:ext cx="6705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259092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13372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13372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362320"/>
            <a:ext cx="3352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36232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36232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59092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59092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19520"/>
            <a:ext cx="6705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1337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838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2040" y="213372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133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Head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5480" y="2133720"/>
            <a:ext cx="48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T.O.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80200" y="213372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Longueur tot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362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03920" y="2362320"/>
            <a:ext cx="48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Fla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362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Dep_f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4240" y="259092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Durée de v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6560" y="25909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Protoc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79320" y="2590920"/>
            <a:ext cx="162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Cheksume sur le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Adresse 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30481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Adresse dest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352680"/>
            <a:ext cx="1676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35268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35268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58128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3352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2320" y="335268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8920" y="33526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24920" y="335268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Checks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4960" y="3581280"/>
            <a:ext cx="72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Identif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3581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Sequen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8098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16640" y="38098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3366"/>
                </a:solidFill>
                <a:latin typeface="Verdan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133720"/>
            <a:ext cx="685800" cy="180720"/>
          </a:xfrm>
          <a:prstGeom prst="rightArrow">
            <a:avLst>
              <a:gd name="adj1" fmla="val 50000"/>
              <a:gd name="adj2" fmla="val 9487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191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6600"/>
                </a:solidFill>
                <a:latin typeface="Verdana"/>
              </a:rPr>
              <a:t>1.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Snort initialise un pointeur sur le paquet reçu ainsi qu’une variable   contenant la longueur du paque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3526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876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6600"/>
                </a:solidFill>
                <a:latin typeface="Verdana"/>
              </a:rPr>
              <a:t>2.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Snort déplace le pointeur vers l’en-tête ICMP tout en modifiant la longueur du paquet qui devient la taille du paquet ICM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8620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6600"/>
                </a:solidFill>
                <a:latin typeface="Verdana"/>
              </a:rPr>
              <a:t>3.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Pour finir, Snort déplace le pointeur vers les données 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et dans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le cas d'un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ECHO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, ou 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ECHO REPLY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, il décale de nouveau le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</a:rPr>
              <a:t>pointeur vers les données 4 bytes plus loin</a:t>
            </a:r>
            <a:r>
              <a:rPr b="0" lang="fr-BE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89040" y="3762360"/>
            <a:ext cx="2000880" cy="370080"/>
            <a:chOff x="2489040" y="3762360"/>
            <a:chExt cx="2000880" cy="370080"/>
          </a:xfrm>
        </p:grpSpPr>
        <p:grpSp>
          <p:nvGrpSpPr>
            <p:cNvPr id="104" name=""/>
            <p:cNvGrpSpPr/>
            <p:nvPr/>
          </p:nvGrpSpPr>
          <p:grpSpPr>
            <a:xfrm>
              <a:off x="2489040" y="3762360"/>
              <a:ext cx="253800" cy="352080"/>
              <a:chOff x="2489040" y="3762360"/>
              <a:chExt cx="253800" cy="35208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2514240" y="3809880"/>
                <a:ext cx="228600" cy="3045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2489040" y="3762360"/>
                <a:ext cx="202680" cy="322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814120" y="3886200"/>
              <a:ext cx="167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000" spc="-1" strike="noStrike">
                  <a:solidFill>
                    <a:srgbClr val="003366"/>
                  </a:solidFill>
                  <a:latin typeface="Verdana"/>
                </a:rPr>
                <a:t>(Erreur de segmentat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Signature de l’at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3176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Détecter que l’on a une trame ICMP de type ECHO 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Vérifier que les données ont une taille inférieure à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9112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es paquets étant décodés par Snort, les valeurs renvoyées par celui-ci sont erroné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Nous utiliserons cette particularité lors de la création de la règle pour détecter l’atta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6600"/>
                </a:solidFill>
                <a:latin typeface="Verdana"/>
              </a:rPr>
              <a:t>Création d’une règle sous Sn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52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orsque Snort décode une trame ICMP de 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(&lt;=4) bytes, il indique une 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payload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supérieur à 65535-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bytes. Cette valeur peut être obtenue dans les règles à l’aide de </a:t>
            </a:r>
            <a:r>
              <a:rPr b="0" i="1" lang="fr-BE" sz="2400" spc="-1" strike="noStrike">
                <a:solidFill>
                  <a:srgbClr val="003366"/>
                </a:solidFill>
                <a:latin typeface="Verdana"/>
              </a:rPr>
              <a:t>dsize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La règle verifira si on a bien une trame ICMP de type ECHO REQUEST</a:t>
            </a:r>
            <a:r>
              <a:rPr b="0" lang="fr-BE" sz="1400" spc="-1" strike="noStrike">
                <a:solidFill>
                  <a:srgbClr val="003366"/>
                </a:solidFill>
                <a:latin typeface="Verdana"/>
              </a:rPr>
              <a:t>(type = 8)</a:t>
            </a:r>
            <a:r>
              <a:rPr b="0" lang="fr-BE" sz="2400" spc="-1" strike="noStrike">
                <a:solidFill>
                  <a:srgbClr val="003366"/>
                </a:solidFill>
                <a:latin typeface="Verdana"/>
              </a:rPr>
              <a:t> et que la payload est supérieure à 65531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9528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alert icmp $EXT_NET any -&gt; $HOME_NET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3300"/>
                </a:solidFill>
                <a:latin typeface="Verdana"/>
              </a:rPr>
              <a:t>(msg:’’ICMP less four bytes’’; itype: 8; dsize: &gt; 65531; )</a:t>
            </a:r>
            <a:r>
              <a:rPr b="1" lang="fr-BE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4:20:52Z</dcterms:created>
  <dc:creator>Seronveaux Xavier</dc:creator>
  <dc:description/>
  <dc:language>en-US</dc:language>
  <cp:lastModifiedBy>Laurence Herbiet</cp:lastModifiedBy>
  <dcterms:modified xsi:type="dcterms:W3CDTF">2002-04-15T07:28:44Z</dcterms:modified>
  <cp:revision>13</cp:revision>
  <dc:subject/>
  <dc:title>Denial of Service and  Distributed Denial of Service</dc:title>
</cp:coreProperties>
</file>